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7CABF-AC5F-4E34-870A-C2C42BBC5A13}"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A6F13-FFC0-4F3A-8886-C4AFF0C436D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4" name="PlaceHolder 1"/>
          <p:cNvSpPr>
            <a:spLocks noGrp="1"/>
          </p:cNvSpPr>
          <p:nvPr>
            <p:ph type="sldImg"/>
          </p:nvPr>
        </p:nvSpPr>
        <p:spPr>
          <a:xfrm>
            <a:off x="985680" y="733320"/>
            <a:ext cx="4886640" cy="3665520"/>
          </a:xfrm>
          <a:prstGeom prst="rect">
            <a:avLst/>
          </a:prstGeom>
          <a:ln w="0">
            <a:noFill/>
          </a:ln>
        </p:spPr>
      </p:sp>
      <p:sp>
        <p:nvSpPr>
          <p:cNvPr id="671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6B1AC2-1CE5-452A-968A-05F83E342BC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B696E-A594-4AE7-A0BC-383BEDDC504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0" name="PlaceHolder 1"/>
          <p:cNvSpPr>
            <a:spLocks noGrp="1"/>
          </p:cNvSpPr>
          <p:nvPr>
            <p:ph type="sldImg"/>
          </p:nvPr>
        </p:nvSpPr>
        <p:spPr>
          <a:xfrm>
            <a:off x="985680" y="741240"/>
            <a:ext cx="4886640" cy="3665520"/>
          </a:xfrm>
          <a:prstGeom prst="rect">
            <a:avLst/>
          </a:prstGeom>
          <a:ln w="0">
            <a:noFill/>
          </a:ln>
        </p:spPr>
      </p:sp>
      <p:sp>
        <p:nvSpPr>
          <p:cNvPr id="6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047286-599D-4ED2-8376-78DD699886E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88688-9341-47E2-B5B9-06FE029DB70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4" name="PlaceHolder 1"/>
          <p:cNvSpPr>
            <a:spLocks noGrp="1"/>
          </p:cNvSpPr>
          <p:nvPr>
            <p:ph type="sldImg"/>
          </p:nvPr>
        </p:nvSpPr>
        <p:spPr>
          <a:xfrm>
            <a:off x="985680" y="741240"/>
            <a:ext cx="4886640" cy="3665520"/>
          </a:xfrm>
          <a:prstGeom prst="rect">
            <a:avLst/>
          </a:prstGeom>
          <a:ln w="0">
            <a:noFill/>
          </a:ln>
        </p:spPr>
      </p:sp>
      <p:sp>
        <p:nvSpPr>
          <p:cNvPr id="6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F7E89-8D63-4ACC-BDD4-F8A8A0A4600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820F3-179E-4BC9-A7D5-55EBEAED8ED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8" name="PlaceHolder 1"/>
          <p:cNvSpPr>
            <a:spLocks noGrp="1"/>
          </p:cNvSpPr>
          <p:nvPr>
            <p:ph type="sldImg"/>
          </p:nvPr>
        </p:nvSpPr>
        <p:spPr>
          <a:xfrm>
            <a:off x="985680" y="741240"/>
            <a:ext cx="4886640" cy="3665520"/>
          </a:xfrm>
          <a:prstGeom prst="rect">
            <a:avLst/>
          </a:prstGeom>
          <a:ln w="0">
            <a:noFill/>
          </a:ln>
        </p:spPr>
      </p:sp>
      <p:sp>
        <p:nvSpPr>
          <p:cNvPr id="6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B090F-5423-4022-9B31-A2E7EC6BEBA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3F82E-1CBB-4840-B74C-2D276D2B7B8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2" name="PlaceHolder 1"/>
          <p:cNvSpPr>
            <a:spLocks noGrp="1"/>
          </p:cNvSpPr>
          <p:nvPr>
            <p:ph type="sldImg"/>
          </p:nvPr>
        </p:nvSpPr>
        <p:spPr>
          <a:xfrm>
            <a:off x="985680" y="741240"/>
            <a:ext cx="4886640" cy="3665520"/>
          </a:xfrm>
          <a:prstGeom prst="rect">
            <a:avLst/>
          </a:prstGeom>
          <a:ln w="0">
            <a:noFill/>
          </a:ln>
        </p:spPr>
      </p:sp>
      <p:sp>
        <p:nvSpPr>
          <p:cNvPr id="6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49AC53-8C9B-431C-9776-8F8250923C3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84E8AE-6781-4432-BCDD-7C07A4AEF08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6" name="PlaceHolder 1"/>
          <p:cNvSpPr>
            <a:spLocks noGrp="1"/>
          </p:cNvSpPr>
          <p:nvPr>
            <p:ph type="sldImg"/>
          </p:nvPr>
        </p:nvSpPr>
        <p:spPr>
          <a:xfrm>
            <a:off x="985680" y="741240"/>
            <a:ext cx="4886640" cy="3665520"/>
          </a:xfrm>
          <a:prstGeom prst="rect">
            <a:avLst/>
          </a:prstGeom>
          <a:ln w="0">
            <a:noFill/>
          </a:ln>
        </p:spPr>
      </p:sp>
      <p:sp>
        <p:nvSpPr>
          <p:cNvPr id="6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68B9A-3FE4-451E-93A5-6A1C70B580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F59B7-4B9E-4278-8324-5D299DD812E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0" name="PlaceHolder 1"/>
          <p:cNvSpPr>
            <a:spLocks noGrp="1"/>
          </p:cNvSpPr>
          <p:nvPr>
            <p:ph type="sldImg"/>
          </p:nvPr>
        </p:nvSpPr>
        <p:spPr>
          <a:xfrm>
            <a:off x="985680" y="741240"/>
            <a:ext cx="4886640" cy="3665520"/>
          </a:xfrm>
          <a:prstGeom prst="rect">
            <a:avLst/>
          </a:prstGeom>
          <a:ln w="0">
            <a:noFill/>
          </a:ln>
        </p:spPr>
      </p:sp>
      <p:sp>
        <p:nvSpPr>
          <p:cNvPr id="6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76A1BA-34DE-4F97-A35A-C44537367B8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3E2C3-CD30-4955-BC65-7962AA69861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4" name="PlaceHolder 1"/>
          <p:cNvSpPr>
            <a:spLocks noGrp="1"/>
          </p:cNvSpPr>
          <p:nvPr>
            <p:ph type="sldImg"/>
          </p:nvPr>
        </p:nvSpPr>
        <p:spPr>
          <a:xfrm>
            <a:off x="985680" y="741240"/>
            <a:ext cx="4886640" cy="3665520"/>
          </a:xfrm>
          <a:prstGeom prst="rect">
            <a:avLst/>
          </a:prstGeom>
          <a:ln w="0">
            <a:noFill/>
          </a:ln>
        </p:spPr>
      </p:sp>
      <p:sp>
        <p:nvSpPr>
          <p:cNvPr id="6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F550D-47B5-401D-B347-FC7EBE19E1F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16F1F-0F5A-4E6C-AB58-C3CCB68A3A4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8" name="PlaceHolder 1"/>
          <p:cNvSpPr>
            <a:spLocks noGrp="1"/>
          </p:cNvSpPr>
          <p:nvPr>
            <p:ph type="sldImg"/>
          </p:nvPr>
        </p:nvSpPr>
        <p:spPr>
          <a:xfrm>
            <a:off x="985680" y="741240"/>
            <a:ext cx="4886640" cy="3665520"/>
          </a:xfrm>
          <a:prstGeom prst="rect">
            <a:avLst/>
          </a:prstGeom>
          <a:ln w="0">
            <a:noFill/>
          </a:ln>
        </p:spPr>
      </p:sp>
      <p:sp>
        <p:nvSpPr>
          <p:cNvPr id="6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34679-8A93-45AE-94C8-EBF712A20B3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2FA79-0EFE-428E-9340-1425197F8C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82" name="PlaceHolder 1"/>
          <p:cNvSpPr>
            <a:spLocks noGrp="1"/>
          </p:cNvSpPr>
          <p:nvPr>
            <p:ph type="sldImg"/>
          </p:nvPr>
        </p:nvSpPr>
        <p:spPr>
          <a:xfrm>
            <a:off x="985680" y="741240"/>
            <a:ext cx="4886640" cy="3665520"/>
          </a:xfrm>
          <a:prstGeom prst="rect">
            <a:avLst/>
          </a:prstGeom>
          <a:ln w="0">
            <a:noFill/>
          </a:ln>
        </p:spPr>
      </p:sp>
      <p:sp>
        <p:nvSpPr>
          <p:cNvPr id="67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063DFD-24C2-4EED-99F4-C6C3D20BB3D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680442-E64A-4499-9743-BC90C6FD94E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86" name="PlaceHolder 1"/>
          <p:cNvSpPr>
            <a:spLocks noGrp="1"/>
          </p:cNvSpPr>
          <p:nvPr>
            <p:ph type="sldImg"/>
          </p:nvPr>
        </p:nvSpPr>
        <p:spPr>
          <a:xfrm>
            <a:off x="985680" y="741240"/>
            <a:ext cx="4886640" cy="3665520"/>
          </a:xfrm>
          <a:prstGeom prst="rect">
            <a:avLst/>
          </a:prstGeom>
          <a:ln w="0">
            <a:noFill/>
          </a:ln>
        </p:spPr>
      </p:sp>
      <p:sp>
        <p:nvSpPr>
          <p:cNvPr id="6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976D0-EAB6-4BF7-9F8E-61D03450AB1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FB152-0D14-45AE-AE1D-0D4EDD5270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8" name="PlaceHolder 1"/>
          <p:cNvSpPr>
            <a:spLocks noGrp="1"/>
          </p:cNvSpPr>
          <p:nvPr>
            <p:ph type="sldImg"/>
          </p:nvPr>
        </p:nvSpPr>
        <p:spPr>
          <a:xfrm>
            <a:off x="985680" y="741240"/>
            <a:ext cx="4886640" cy="3665520"/>
          </a:xfrm>
          <a:prstGeom prst="rect">
            <a:avLst/>
          </a:prstGeom>
          <a:ln w="0">
            <a:noFill/>
          </a:ln>
        </p:spPr>
      </p:sp>
      <p:sp>
        <p:nvSpPr>
          <p:cNvPr id="6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8385A-90FD-4B64-A1E4-3D78F22DA61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72F16-1092-4422-AF1C-12FC03054A5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90" name="PlaceHolder 1"/>
          <p:cNvSpPr>
            <a:spLocks noGrp="1"/>
          </p:cNvSpPr>
          <p:nvPr>
            <p:ph type="sldImg"/>
          </p:nvPr>
        </p:nvSpPr>
        <p:spPr>
          <a:xfrm>
            <a:off x="985680" y="741240"/>
            <a:ext cx="4886640" cy="3665520"/>
          </a:xfrm>
          <a:prstGeom prst="rect">
            <a:avLst/>
          </a:prstGeom>
          <a:ln w="0">
            <a:noFill/>
          </a:ln>
        </p:spPr>
      </p:sp>
      <p:sp>
        <p:nvSpPr>
          <p:cNvPr id="6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17BE2-FE8B-41BB-AFE4-9535A1009C0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6ADC2-3379-4B88-B7E8-258300A6FBD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94" name="PlaceHolder 1"/>
          <p:cNvSpPr>
            <a:spLocks noGrp="1"/>
          </p:cNvSpPr>
          <p:nvPr>
            <p:ph type="sldImg"/>
          </p:nvPr>
        </p:nvSpPr>
        <p:spPr>
          <a:xfrm>
            <a:off x="985680" y="741240"/>
            <a:ext cx="4886640" cy="3665520"/>
          </a:xfrm>
          <a:prstGeom prst="rect">
            <a:avLst/>
          </a:prstGeom>
          <a:ln w="0">
            <a:noFill/>
          </a:ln>
        </p:spPr>
      </p:sp>
      <p:sp>
        <p:nvSpPr>
          <p:cNvPr id="67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4C4E93-0F56-493C-B27A-4928514A273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FA6359-5D6F-4B07-AC2A-6B58B41F02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98" name="PlaceHolder 1"/>
          <p:cNvSpPr>
            <a:spLocks noGrp="1"/>
          </p:cNvSpPr>
          <p:nvPr>
            <p:ph type="sldImg"/>
          </p:nvPr>
        </p:nvSpPr>
        <p:spPr>
          <a:xfrm>
            <a:off x="985680" y="741240"/>
            <a:ext cx="4886640" cy="3665520"/>
          </a:xfrm>
          <a:prstGeom prst="rect">
            <a:avLst/>
          </a:prstGeom>
          <a:ln w="0">
            <a:noFill/>
          </a:ln>
        </p:spPr>
      </p:sp>
      <p:sp>
        <p:nvSpPr>
          <p:cNvPr id="6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317E4-710C-4B2B-B72F-703DDCAC9B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BD6402-19F3-48C8-B8CC-752C293683D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2" name="PlaceHolder 1"/>
          <p:cNvSpPr>
            <a:spLocks noGrp="1"/>
          </p:cNvSpPr>
          <p:nvPr>
            <p:ph type="sldImg"/>
          </p:nvPr>
        </p:nvSpPr>
        <p:spPr>
          <a:xfrm>
            <a:off x="985680" y="741240"/>
            <a:ext cx="4886640" cy="3665520"/>
          </a:xfrm>
          <a:prstGeom prst="rect">
            <a:avLst/>
          </a:prstGeom>
          <a:ln w="0">
            <a:noFill/>
          </a:ln>
        </p:spPr>
      </p:sp>
      <p:sp>
        <p:nvSpPr>
          <p:cNvPr id="6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86555-5096-42C6-89E5-0F10DF11B6B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0FB15-9F39-40C3-B37E-4686E56B481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6" name="PlaceHolder 1"/>
          <p:cNvSpPr>
            <a:spLocks noGrp="1"/>
          </p:cNvSpPr>
          <p:nvPr>
            <p:ph type="sldImg"/>
          </p:nvPr>
        </p:nvSpPr>
        <p:spPr>
          <a:xfrm>
            <a:off x="985680" y="741240"/>
            <a:ext cx="4886640" cy="3665520"/>
          </a:xfrm>
          <a:prstGeom prst="rect">
            <a:avLst/>
          </a:prstGeom>
          <a:ln w="0">
            <a:noFill/>
          </a:ln>
        </p:spPr>
      </p:sp>
      <p:sp>
        <p:nvSpPr>
          <p:cNvPr id="6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88942-9968-4EE5-8A34-C1909CCC716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137A2-A9FF-4346-871D-8473F722A1D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10" name="PlaceHolder 1"/>
          <p:cNvSpPr>
            <a:spLocks noGrp="1"/>
          </p:cNvSpPr>
          <p:nvPr>
            <p:ph type="sldImg"/>
          </p:nvPr>
        </p:nvSpPr>
        <p:spPr>
          <a:xfrm>
            <a:off x="985680" y="741240"/>
            <a:ext cx="4886640" cy="3665520"/>
          </a:xfrm>
          <a:prstGeom prst="rect">
            <a:avLst/>
          </a:prstGeom>
          <a:ln w="0">
            <a:noFill/>
          </a:ln>
        </p:spPr>
      </p:sp>
      <p:sp>
        <p:nvSpPr>
          <p:cNvPr id="6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0C459E-48A9-4349-9BC6-C3AF5EC9174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29F871-FAB3-412C-8D7F-CFC96153811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14" name="PlaceHolder 1"/>
          <p:cNvSpPr>
            <a:spLocks noGrp="1"/>
          </p:cNvSpPr>
          <p:nvPr>
            <p:ph type="sldImg"/>
          </p:nvPr>
        </p:nvSpPr>
        <p:spPr>
          <a:xfrm>
            <a:off x="985680" y="741240"/>
            <a:ext cx="4886640" cy="3665520"/>
          </a:xfrm>
          <a:prstGeom prst="rect">
            <a:avLst/>
          </a:prstGeom>
          <a:ln w="0">
            <a:noFill/>
          </a:ln>
        </p:spPr>
      </p:sp>
      <p:sp>
        <p:nvSpPr>
          <p:cNvPr id="6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62C44-3D78-4EBE-8763-3B05C9A7299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0956E-B1EB-43B7-95B7-48D5D3250CE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18" name="PlaceHolder 1"/>
          <p:cNvSpPr>
            <a:spLocks noGrp="1"/>
          </p:cNvSpPr>
          <p:nvPr>
            <p:ph type="sldImg"/>
          </p:nvPr>
        </p:nvSpPr>
        <p:spPr>
          <a:xfrm>
            <a:off x="985680" y="741240"/>
            <a:ext cx="4886640" cy="3665520"/>
          </a:xfrm>
          <a:prstGeom prst="rect">
            <a:avLst/>
          </a:prstGeom>
          <a:ln w="0">
            <a:noFill/>
          </a:ln>
        </p:spPr>
      </p:sp>
      <p:sp>
        <p:nvSpPr>
          <p:cNvPr id="6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3C5F08-2FE9-487B-9761-6498E0758E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AC17C-6825-45AE-A967-C57A3F163CA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22" name="PlaceHolder 1"/>
          <p:cNvSpPr>
            <a:spLocks noGrp="1"/>
          </p:cNvSpPr>
          <p:nvPr>
            <p:ph type="sldImg"/>
          </p:nvPr>
        </p:nvSpPr>
        <p:spPr>
          <a:xfrm>
            <a:off x="985680" y="741240"/>
            <a:ext cx="4886640" cy="3665520"/>
          </a:xfrm>
          <a:prstGeom prst="rect">
            <a:avLst/>
          </a:prstGeom>
          <a:ln w="0">
            <a:noFill/>
          </a:ln>
        </p:spPr>
      </p:sp>
      <p:sp>
        <p:nvSpPr>
          <p:cNvPr id="6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D2C7D8-1DF9-4C0F-8FDA-12C5F3CDE0C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C5CA3-17C6-4963-8464-F077DC6458F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26" name="PlaceHolder 1"/>
          <p:cNvSpPr>
            <a:spLocks noGrp="1"/>
          </p:cNvSpPr>
          <p:nvPr>
            <p:ph type="sldImg"/>
          </p:nvPr>
        </p:nvSpPr>
        <p:spPr>
          <a:xfrm>
            <a:off x="985680" y="741240"/>
            <a:ext cx="4886640" cy="3665520"/>
          </a:xfrm>
          <a:prstGeom prst="rect">
            <a:avLst/>
          </a:prstGeom>
          <a:ln w="0">
            <a:noFill/>
          </a:ln>
        </p:spPr>
      </p:sp>
      <p:sp>
        <p:nvSpPr>
          <p:cNvPr id="6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87F9A-1BAA-4309-B43D-D27DD1BC167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791B5D-A61F-4818-946E-A456F5EA655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2" name="PlaceHolder 1"/>
          <p:cNvSpPr>
            <a:spLocks noGrp="1"/>
          </p:cNvSpPr>
          <p:nvPr>
            <p:ph type="sldImg"/>
          </p:nvPr>
        </p:nvSpPr>
        <p:spPr>
          <a:xfrm>
            <a:off x="985680" y="741240"/>
            <a:ext cx="4886640" cy="3665520"/>
          </a:xfrm>
          <a:prstGeom prst="rect">
            <a:avLst/>
          </a:prstGeom>
          <a:ln w="0">
            <a:noFill/>
          </a:ln>
        </p:spPr>
      </p:sp>
      <p:sp>
        <p:nvSpPr>
          <p:cNvPr id="67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5B229-B9DC-4B68-87DD-B67759CE489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5B06C3-D62E-4823-B871-F8A06F1CD0C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0" name="PlaceHolder 1"/>
          <p:cNvSpPr>
            <a:spLocks noGrp="1"/>
          </p:cNvSpPr>
          <p:nvPr>
            <p:ph type="sldImg"/>
          </p:nvPr>
        </p:nvSpPr>
        <p:spPr>
          <a:xfrm>
            <a:off x="985680" y="741240"/>
            <a:ext cx="4886640" cy="3665520"/>
          </a:xfrm>
          <a:prstGeom prst="rect">
            <a:avLst/>
          </a:prstGeom>
          <a:ln w="0">
            <a:noFill/>
          </a:ln>
        </p:spPr>
      </p:sp>
      <p:sp>
        <p:nvSpPr>
          <p:cNvPr id="6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C7861D-1552-4716-87C4-27132C92B6F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337F3F-8AF1-4000-9817-4946B567BB7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4" name="PlaceHolder 1"/>
          <p:cNvSpPr>
            <a:spLocks noGrp="1"/>
          </p:cNvSpPr>
          <p:nvPr>
            <p:ph type="sldImg"/>
          </p:nvPr>
        </p:nvSpPr>
        <p:spPr>
          <a:xfrm>
            <a:off x="985680" y="741240"/>
            <a:ext cx="4886640" cy="3665520"/>
          </a:xfrm>
          <a:prstGeom prst="rect">
            <a:avLst/>
          </a:prstGeom>
          <a:ln w="0">
            <a:noFill/>
          </a:ln>
        </p:spPr>
      </p:sp>
      <p:sp>
        <p:nvSpPr>
          <p:cNvPr id="6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9653B-B9CD-45F0-8228-F6F27977166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319BC-F018-415A-ADF3-DF992C4BB5B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8" name="PlaceHolder 1"/>
          <p:cNvSpPr>
            <a:spLocks noGrp="1"/>
          </p:cNvSpPr>
          <p:nvPr>
            <p:ph type="sldImg"/>
          </p:nvPr>
        </p:nvSpPr>
        <p:spPr>
          <a:xfrm>
            <a:off x="985680" y="741240"/>
            <a:ext cx="4886640" cy="3665520"/>
          </a:xfrm>
          <a:prstGeom prst="rect">
            <a:avLst/>
          </a:prstGeom>
          <a:ln w="0">
            <a:noFill/>
          </a:ln>
        </p:spPr>
      </p:sp>
      <p:sp>
        <p:nvSpPr>
          <p:cNvPr id="6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958792-5D08-4A62-80A7-483AAB6AD66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E27E7F-83E7-4743-BFC8-63689FDC03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42" name="PlaceHolder 1"/>
          <p:cNvSpPr>
            <a:spLocks noGrp="1"/>
          </p:cNvSpPr>
          <p:nvPr>
            <p:ph type="sldImg"/>
          </p:nvPr>
        </p:nvSpPr>
        <p:spPr>
          <a:xfrm>
            <a:off x="985680" y="741240"/>
            <a:ext cx="4886640" cy="3665520"/>
          </a:xfrm>
          <a:prstGeom prst="rect">
            <a:avLst/>
          </a:prstGeom>
          <a:ln w="0">
            <a:noFill/>
          </a:ln>
        </p:spPr>
      </p:sp>
      <p:sp>
        <p:nvSpPr>
          <p:cNvPr id="6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1B5932-2C48-42E4-94B7-C6EA395D28B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4D60E2-0EFF-45F9-8CDD-B183921C3F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46" name="PlaceHolder 1"/>
          <p:cNvSpPr>
            <a:spLocks noGrp="1"/>
          </p:cNvSpPr>
          <p:nvPr>
            <p:ph type="sldImg"/>
          </p:nvPr>
        </p:nvSpPr>
        <p:spPr>
          <a:xfrm>
            <a:off x="985680" y="741240"/>
            <a:ext cx="4886640" cy="3665520"/>
          </a:xfrm>
          <a:prstGeom prst="rect">
            <a:avLst/>
          </a:prstGeom>
          <a:ln w="0">
            <a:noFill/>
          </a:ln>
        </p:spPr>
      </p:sp>
      <p:sp>
        <p:nvSpPr>
          <p:cNvPr id="6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CD1458-CCC7-4068-ACB5-70301DBEEC4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98B33-20CA-4CB7-BA15-22F6FBA59A0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50" name="PlaceHolder 1"/>
          <p:cNvSpPr>
            <a:spLocks noGrp="1"/>
          </p:cNvSpPr>
          <p:nvPr>
            <p:ph type="sldImg"/>
          </p:nvPr>
        </p:nvSpPr>
        <p:spPr>
          <a:xfrm>
            <a:off x="985680" y="741240"/>
            <a:ext cx="4886640" cy="3665520"/>
          </a:xfrm>
          <a:prstGeom prst="rect">
            <a:avLst/>
          </a:prstGeom>
          <a:ln w="0">
            <a:noFill/>
          </a:ln>
        </p:spPr>
      </p:sp>
      <p:sp>
        <p:nvSpPr>
          <p:cNvPr id="6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EE16D-EE4B-44A1-8172-D7C1A7181A5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3" name="PlaceHolder 1"/>
          <p:cNvSpPr>
            <a:spLocks noGrp="1"/>
          </p:cNvSpPr>
          <p:nvPr>
            <p:ph type="sldImg"/>
          </p:nvPr>
        </p:nvSpPr>
        <p:spPr>
          <a:xfrm>
            <a:off x="985680" y="733320"/>
            <a:ext cx="4886640" cy="3665520"/>
          </a:xfrm>
          <a:prstGeom prst="rect">
            <a:avLst/>
          </a:prstGeom>
          <a:ln w="0">
            <a:noFill/>
          </a:ln>
        </p:spPr>
      </p:sp>
      <p:sp>
        <p:nvSpPr>
          <p:cNvPr id="6854"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50D955-B090-4CFB-8936-2095D2E661B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B08D3-C973-4BB0-A00F-4E93CA75D11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6" name="PlaceHolder 1"/>
          <p:cNvSpPr>
            <a:spLocks noGrp="1"/>
          </p:cNvSpPr>
          <p:nvPr>
            <p:ph type="sldImg"/>
          </p:nvPr>
        </p:nvSpPr>
        <p:spPr>
          <a:xfrm>
            <a:off x="985680" y="741240"/>
            <a:ext cx="4886640" cy="3665520"/>
          </a:xfrm>
          <a:prstGeom prst="rect">
            <a:avLst/>
          </a:prstGeom>
          <a:ln w="0">
            <a:noFill/>
          </a:ln>
        </p:spPr>
      </p:sp>
      <p:sp>
        <p:nvSpPr>
          <p:cNvPr id="6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39BA7-B971-4D46-AFE5-FB18BDD47AD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53B11-F68B-4D88-AE6B-26173E4AFCF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0" name="PlaceHolder 1"/>
          <p:cNvSpPr>
            <a:spLocks noGrp="1"/>
          </p:cNvSpPr>
          <p:nvPr>
            <p:ph type="sldImg"/>
          </p:nvPr>
        </p:nvSpPr>
        <p:spPr>
          <a:xfrm>
            <a:off x="985680" y="741240"/>
            <a:ext cx="4886640" cy="3665520"/>
          </a:xfrm>
          <a:prstGeom prst="rect">
            <a:avLst/>
          </a:prstGeom>
          <a:ln w="0">
            <a:noFill/>
          </a:ln>
        </p:spPr>
      </p:sp>
      <p:sp>
        <p:nvSpPr>
          <p:cNvPr id="6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3DCDC-1E3F-41FD-9447-8D5ACB852E5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D0A479-61C5-4688-83A3-9E5917E07A7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4" name="PlaceHolder 1"/>
          <p:cNvSpPr>
            <a:spLocks noGrp="1"/>
          </p:cNvSpPr>
          <p:nvPr>
            <p:ph type="sldImg"/>
          </p:nvPr>
        </p:nvSpPr>
        <p:spPr>
          <a:xfrm>
            <a:off x="985680" y="741240"/>
            <a:ext cx="4886640" cy="3665520"/>
          </a:xfrm>
          <a:prstGeom prst="rect">
            <a:avLst/>
          </a:prstGeom>
          <a:ln w="0">
            <a:noFill/>
          </a:ln>
        </p:spPr>
      </p:sp>
      <p:sp>
        <p:nvSpPr>
          <p:cNvPr id="67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75779-F14E-457D-87D4-8C300826A68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7541A-0625-4882-BAAC-EB303D6DCE5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8" name="PlaceHolder 1"/>
          <p:cNvSpPr>
            <a:spLocks noGrp="1"/>
          </p:cNvSpPr>
          <p:nvPr>
            <p:ph type="sldImg"/>
          </p:nvPr>
        </p:nvSpPr>
        <p:spPr>
          <a:xfrm>
            <a:off x="985680" y="741240"/>
            <a:ext cx="4886640" cy="3665520"/>
          </a:xfrm>
          <a:prstGeom prst="rect">
            <a:avLst/>
          </a:prstGeom>
          <a:ln w="0">
            <a:noFill/>
          </a:ln>
        </p:spPr>
      </p:sp>
      <p:sp>
        <p:nvSpPr>
          <p:cNvPr id="6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51AC1-8758-4A7C-BA0F-A9944F09406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B1078-C425-47D4-B2A5-6F6326CD662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2" name="PlaceHolder 1"/>
          <p:cNvSpPr>
            <a:spLocks noGrp="1"/>
          </p:cNvSpPr>
          <p:nvPr>
            <p:ph type="sldImg"/>
          </p:nvPr>
        </p:nvSpPr>
        <p:spPr>
          <a:xfrm>
            <a:off x="985680" y="741240"/>
            <a:ext cx="4886640" cy="3665520"/>
          </a:xfrm>
          <a:prstGeom prst="rect">
            <a:avLst/>
          </a:prstGeom>
          <a:ln w="0">
            <a:noFill/>
          </a:ln>
        </p:spPr>
      </p:sp>
      <p:sp>
        <p:nvSpPr>
          <p:cNvPr id="6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C88F3-9E52-4BAD-AE60-8678960C4C0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662CA-E0CA-458B-B3A6-2EDB68FCE19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6" name="PlaceHolder 1"/>
          <p:cNvSpPr>
            <a:spLocks noGrp="1"/>
          </p:cNvSpPr>
          <p:nvPr>
            <p:ph type="sldImg"/>
          </p:nvPr>
        </p:nvSpPr>
        <p:spPr>
          <a:xfrm>
            <a:off x="985680" y="741240"/>
            <a:ext cx="4886640" cy="3665520"/>
          </a:xfrm>
          <a:prstGeom prst="rect">
            <a:avLst/>
          </a:prstGeom>
          <a:ln w="0">
            <a:noFill/>
          </a:ln>
        </p:spPr>
      </p:sp>
      <p:sp>
        <p:nvSpPr>
          <p:cNvPr id="6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EB58B-94F5-48E3-9FE1-9C8B87009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D9D52A4-1069-4E02-ACD0-06A6B82B4BF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DF2A5F8-FFD4-43DF-911A-38696040957A}"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E5911DE2-922F-4373-A5C3-801C1376A99B}"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A99A0154-F18B-4F08-80EA-7EE69CE71B55}"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D12CA80F-3743-4B90-9437-5FB0553DA5FE}"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3D456249-C667-4163-9273-C905009EC332}"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B96D88D7-AEA9-4D81-ACE3-E5EDB4F62AC3}"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BAC7680C-1CF6-454B-A867-CE6F78191193}"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4BC7E9E5-BAB6-4B9F-BA66-48F6EA976314}"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0E759775-8454-4D0C-8CAE-1F130C757BEE}"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125541FB-AD4C-4045-B9ED-E90C4E6F4C09}"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F09BA986-ACD4-486C-BFD3-CA28FBC1697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EC6E1026-3E85-4426-B336-FC0F738A2DC2}"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C9DDD30D-AE9A-4FB5-84F8-FE8198F9EC17}"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FC2049B7-BD3F-4380-B718-1C95858F33B0}"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F639BF45-D3E3-4496-AADE-0633626A721E}"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ACCF0BF4-3DD2-40BA-BB98-B844F09F81D2}"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4A386732-EDF5-420C-BE8F-ABBC9DD56641}"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CB07FFEB-6017-45C1-88B2-E7C34BEF2CD4}"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C08CF16F-88BC-4F64-BBE2-4320416C3508}"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6D5CD9E8-2936-4FD4-B028-7B7F899DB4D3}"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0D807682-44FF-4F63-AD86-3A0B4A29A638}"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D380A8C3-6E7D-4385-B234-A676FFAC9F9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9AAE69E8-B38B-4793-ACF1-5163EEEACEE8}"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A2CB11B7-EB26-4923-9E63-3C3EE1E799C2}"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7371268A-C60A-4D7A-90F8-1F5E2145405D}"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63C3AC4B-0C1B-42EF-B647-79DD81ED96BD}"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1C55BDF3-5B9E-49DC-9508-8AF5BA441E9C}"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9060ACDB-0B63-4FC7-A8FB-0E26FBBA5224}"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6819DB4E-F76B-4B5F-85ED-2D1D8741CFDF}"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BB17C671-44C8-4D9F-8D17-596552FE4786}"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B4DFB413-8B12-4503-B82C-EA4AEC8F357F}"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2F68B851-3EDF-45B9-8EFA-3B52F71D0623}"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90963027-5D57-4345-A85F-9142F0D800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1B5E136-22B9-4B6E-946A-EA7AC38BDA77}"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9E33FD93-8F8E-4ACD-B2C6-B231D114BFA1}"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442FBDCE-FA51-49D8-B33A-977A7B2F9698}"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69205BE2-0B28-433E-889D-A620F94FECF2}"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23A54456-A041-45B0-A8A0-41B4D096B471}"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8DCE79EB-123D-4643-8FB2-252E57441D77}"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A5B22378-ACC7-422D-B214-ACDD3F067878}"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EDCB5257-2596-4E91-8DA7-577572B5B2D9}"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FBDB1288-D0DF-4B8E-BFF1-ECEF14FC7D79}"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FDC228ED-DC9D-49E9-B3DB-2715BBCC8178}"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71BB0221-73EF-4D3A-A379-3C7E21CBAD8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81CABA3-F532-4D82-8DC1-589946571193}"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93021A5B-9302-48C1-A1D3-D856EDA29451}"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C5ECC1A2-B8ED-457B-86AF-BB9319A78A9E}"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7D2F1B12-8BB2-415A-BA48-1680082F29C3}"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449AA275-8205-41DA-9FC3-681588F9117D}"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73362CD7-D549-41DA-847D-E5EDC5321701}"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BBBFCB66-33F0-41BE-B59B-F102729E476A}"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91AAAC32-9E09-40E6-B7C4-42A9B25AF798}"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621E76FA-9025-439A-8483-760B9C7BD066}"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AED4C567-3D68-4352-91C8-399FE968AEC2}"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16718810-9915-4A86-8EF9-A490A37036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3F64A87-DB12-4041-A266-2B8DB947E180}"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A18F253F-2962-407D-A94B-78F3A9D11719}"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DD0D2FC0-82AE-4D26-9459-5AD1529F835E}"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56FAC6C6-AA39-474B-B6A6-DBB07B7B5C3A}"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70E7C98D-62FF-4A72-942B-5685BB9C6C8E}"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3D6B5F82-53F4-45F3-A616-E29737D9D1EF}"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234AE387-87FF-4D90-A591-BECD74A0AC0C}"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468CF17B-E8BC-4136-90CF-B1FFC92C8ADC}"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97363C0B-C4DF-48EC-8916-0F9DDC5A637C}"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2A442CF4-483F-4270-B156-EDD2FAAD580B}"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7B32B0E3-28A8-4D87-BFE1-DB6780AB483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93F89826-4521-4C17-8DD3-410CAF80FA83}"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E45DE7CF-C3D6-4FC9-A2B9-5F841C2EB96A}"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9B5562C0-06FF-470D-86E6-06E2C470DAAA}"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2725BBFF-AF5C-4078-AC59-9BDEED5F9CA0}"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1F08B406-BB4D-478F-8FAB-239C0403B1E3}"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677B1E28-DF65-4960-9E79-20583CC08543}"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412FC678-9BDB-4751-8818-8EF9DD77E3D5}"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8E1A873D-5574-41ED-ADEF-82BE26DA0E43}"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EE1D8CA9-BE51-4E51-B0E1-25D6FCFF0D1E}"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0CAC709B-539A-413A-AB55-D7CBA50F6DBB}"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F325C503-E412-49D1-AE34-EE53990AC1F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E9B9B1CB-4D5B-40D4-8556-116DDD5ABDEB}"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5A8A339C-6B16-444E-B943-61250C199F0B}"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D4681488-0D16-465E-A119-1271EDA8CA40}"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59A4A304-1420-4023-9F03-40F64EA29C27}"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2CB0FE1C-EA27-4F94-A077-288AAEB47CF2}"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24B2879A-F26C-4AFD-A0FE-975B72B65728}"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6C47C3D3-0319-459F-B8E2-487EE284EBD3}"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FBEDEF06-15D9-4036-A4A8-D8C634359C9F}"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802C3ED7-EE87-40B1-B13C-AB94C4E118D0}"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8BFA5CEB-AEDF-481F-B609-B4B3A5FAE050}"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FAAC4E50-10AA-416F-B13F-EE8F42F83A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34FE5496-5BEA-47EC-B309-BC3C540A178E}"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64AE326C-1FE8-4D60-94EE-A110FC85B2DC}"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BDDFADCD-2229-4F8B-8439-BBC959AC1106}"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EC67E5CE-A42E-4F0B-B9EF-48CB9040091F}"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BA2AA734-B156-49AC-8ADF-968DF03F2531}"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A79BADDC-9E51-4434-B2ED-C33894D3D86E}"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583BC961-E98F-4F46-8EA6-C320ED681D3B}"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317707EF-2224-4627-B7AF-6D10E7C9A6DA}"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583E3628-3AFA-499E-858B-4B5BA4CF14A0}"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E8D79658-1BB3-446E-86FD-30A97227B0BD}"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4F4A4957-1421-40FA-B001-06B7677474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6E79912-DECF-4F0D-B46C-7E6D58F88DFB}"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90D80C0F-A6F3-44EF-BA9B-9E45ADE75E04}"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F03B79FD-23E9-45C8-B6C3-C9E3BB5F11A1}"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530B7906-9B98-41C8-985A-6F82FB031EC2}"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623B1252-FE0C-49CB-8B04-2750D5280575}"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3968FC9A-132A-4DB5-9A0E-95A65D3D96CA}"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6EF73DEF-B069-4A38-A50E-DCA3C0F78B22}"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989A402C-CBA1-4801-8BC9-1AD14443F9C5}"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829EC075-3C35-4426-A000-02114BFA310D}"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9CD73E83-CDC3-44D6-BCFD-A8456CBA40BF}"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12BE9DD4-5EC4-4597-AFB3-B23C4CD8C5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57C0D8F-68FB-416D-B85C-111BEF8EBA9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C1BBDC0-AB95-416B-B021-C275E26A4F09}"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A36E0093-4F93-409A-9D83-9D76D2407680}"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3C1F7F26-584F-4547-A2E1-F0B58C229D8A}"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9189E8C3-BE0F-49E1-83B4-55C7932C6F1D}"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72A6BC95-6D7D-4B41-9B4F-4B88B2421ACD}"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1CF16C35-98BB-4FB7-B780-D610F7F73CCD}"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D90E88EC-122F-4344-8A44-4A2F7D8FB659}"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7C717E97-C458-4436-9379-23E63263AAC0}"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013C7C9E-E66E-4B45-8099-F091F63FC38E}"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6FD6866F-CC1D-4BDB-A084-6E70A50E3BA4}"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A2FF124A-7639-42DC-814C-37BAF324D69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836FCA2-96C4-4C7E-A76B-8C35EA9AF2AB}"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EEDB3A7A-002E-4F3D-AF55-916ABE32FD8C}"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D3824883-422A-423B-88CF-C1C08EFF3C75}"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C0DC3ADA-7659-4B77-B59E-93D2288AD817}"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9FF98D21-DA32-472B-B731-CE9771B152C7}"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085BE264-DF3A-4AD7-82F0-41B6B05A1475}"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1BDFC38C-537A-4A29-B65C-1030A582F672}"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278CD10F-7C2A-46C9-90DD-199154C47ADF}"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F25FCD69-3670-42D4-95F0-0E99A5F2E418}"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50226C4E-FD66-4BB3-9B21-FF586701F18E}"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F2F8F592-43C2-49D6-9ED6-880C8744370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D652A20-95F6-4CC6-9DD2-B5CDE80AF96D}"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8B039FD1-2720-4163-B1C5-B0DA8032E19A}"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3EAF445B-240D-435A-A58E-C729D002076A}"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FA7017DD-4BC6-4B66-B115-27B69998A91D}"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927EE216-C355-464E-BC64-A50ABA693F87}"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811F18E5-FAE6-437C-A28C-990E8418A292}"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12D82301-04B8-4D85-88EE-34CEABB8FAB7}"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8A58955C-DD9C-4088-AC79-27EF5CD32E93}"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5B561941-4FD6-44E9-94A4-FCF400D348AD}"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ACA61F69-1B1B-4398-AAE3-98A10CF29986}"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75AE42D6-8EF3-4EBC-B336-414298AEE23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857B2DAB-80D5-4C35-B2C4-35080DB0CB35}"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8959664E-FF64-4DE0-9C3E-13260B920AE5}"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DEB8CA5F-8084-4EED-A335-846846B26DA8}"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8E39CCE8-6E46-4FB3-A51F-E8316D123A1F}"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E968856B-5C45-40C6-91A1-E3CC84B57E2C}"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F53D2029-4211-4426-BEFB-C8C1B00CA204}"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D7876A78-20AE-473E-A17F-6E3ADE519A6D}"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B292ECDD-C34E-48CD-BF61-B10B5F108D25}"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3CED9B8A-BE6C-4993-9405-E40D2BDF98AE}"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25489F57-F006-4173-B90E-4C94A742F080}"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0834F0C9-32D8-421A-855C-70C28AB7468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990DFCA-12FD-45F7-95E5-C5CACCAEDEB5}"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936AA4E6-917B-49EE-88CC-C3F9A73BEAFC}"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3EF09DDB-0DC0-48AA-BB60-59CEC5315EE9}"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CB71BB05-884F-4CF7-ADC5-F474495FFE69}"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1CD74092-A83D-43EF-B99A-521361117D48}"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1BB87444-0F6E-4421-9B98-3FDB02FC6509}"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39BC6C72-8E24-4362-A942-8EED1EC2F2AB}"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246F0D91-A2A7-404A-B012-2BBF81AF7D3C}"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895333F1-834A-4BCA-B756-AA5ACE8652D0}"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4AD6FD17-BC4C-42E5-90A9-B647CF965466}"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5C421FFF-1580-4606-8C62-F2FB103266B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C9CC90B-79D8-43E1-9351-4B658F6E99DB}"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37F20FBC-8519-4B2E-8749-0CDC072D5B99}"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0A1AE881-91C1-40F0-95EC-0FD9BE4EB837}"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90073337-873C-4F7F-8052-005414F07BF7}"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8A320712-607F-4293-919D-69DB86036AD0}"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7BDE50CA-EC93-46B9-8616-8971D612165F}"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5CC25FBB-94AE-4697-9290-696D43CDDF97}"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7C7C6E73-B1F2-4336-A9B9-7620BE33721A}"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AA548D3C-475C-4CD0-BE30-22DC78C77A81}"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CA9A395B-8D41-4D89-84E5-8CFBD93678E4}"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A30A7658-32A5-401A-B775-2412600110B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4E3FFD0-E2D8-4FDC-A3A8-EEC2EF124F1A}"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DB7ED65C-0018-4FCA-9270-B7258261AD1D}"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DB54E84A-84D6-428B-BAE9-73BD2585BC5B}"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A3758781-58CF-43FF-B80F-57D22ED39F82}"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C401F20B-4933-4C55-A555-C6425A2B315A}"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0DDB9CA1-41D9-4270-9F6C-C5F5831A84B4}"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093FBADE-D799-4F22-B48C-369D916ECE21}"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97EDBDB4-282A-4884-B8A2-F86DBB152F19}"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26DFF8E7-324D-4EC3-8D0E-20338672EF58}"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A4FF1244-325F-41DA-919F-7314733DFB6A}"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4D9BA4E9-70B8-4F6B-9EE9-73473025C6D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433A71A-D0E8-475C-87BA-BE9C4E79644A}"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ABE38CC2-774B-4A9D-8BFC-B3D2D81A68B4}"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44ECAC13-8998-4CAC-B8A7-BE4072DA74F1}"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CB621731-8E7D-452E-B04C-C2335DE24135}"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B2336E18-AF31-46C7-B7A5-0926080AD8F3}"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F7DC23DB-600A-4560-B778-C4DFB2CEAC36}"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F996EBBD-0823-42D3-8157-60DBF7873B3E}"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23F1ADBD-5674-4993-8DE6-8A521A4B5600}"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FA07686F-2A76-4464-85A6-552FD133542F}"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20D73DF3-ED44-4F50-8260-539C6DB6524C}"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73C4B623-3D0E-49AA-B1AE-413544AEF10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FB27401-D85E-44B4-9995-BE6BE5DCDE4B}"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094715AC-9A82-4ABF-8E2E-39BCAA7AE124}"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F0814983-46C7-41A1-BBCC-1B6D5400D2B4}"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6CD43EF8-EBAE-4F04-A4CE-55F48CC293C7}"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13AB143C-0811-41D1-9F33-1B4BE9CE2714}"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3AD24CEF-01BD-4B15-AE4C-67E3DD354311}"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38A6FC6F-A77D-456E-9089-3876375231DF}"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F763C1D0-EB97-4489-87C3-64F12B66AD9A}"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91BF77BC-993A-4B82-A335-1867CFE63F32}"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8C42E82A-911F-4539-8515-B250722C85AC}"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60347A36-E27C-4992-98BB-403962C95AB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87A6894A-1E70-4342-88B3-3BA4223527D6}"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F7B57E83-A817-403D-8C4C-9B5EC392898B}"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880D6CF2-6CF4-4E3C-A76B-F5FCDA55C81F}"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B5DED302-94EE-4800-8C80-809C69C796C9}"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DA9B0F78-7CC2-4DBF-A119-19E97E3CDCE1}"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57B2003F-DDA2-4317-B137-5B2D673DA4AE}"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356AFE19-58BA-40FA-9C6D-78B2CAEFC3C3}"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6670B909-2BAA-4F26-A5D1-845E9A7350FE}"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64ECC801-842D-49A9-9F78-95D1863F9AB5}"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37B353C0-ACD7-4AFD-BA8B-6D16EEAAD5A9}"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D491579C-CAB1-49E4-BFCA-C056310A0F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61A3BF1-10E2-4C07-A0C6-C382ADBC64D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72D36308-09DC-4CA3-B190-3E5C09594A6E}"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C317FA4C-C1E4-431B-B58D-87CCA6AD911F}"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B0CBB3FE-5F73-4EB6-8787-433D5771E345}"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F8F25AF9-E661-41B8-B282-8DA38EDB4AB5}"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66E788F2-1F32-4F39-98C6-F1D96E856E3D}"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9FDDE506-F530-45EE-9DCB-36C324A1EF46}"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D33CF04D-3B9F-4396-B222-EC6F7184A615}"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CE1A77ED-0BDF-4D6F-8ECF-77BF85A3C4CF}"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5B619EA9-C1D2-4E9F-A616-6417BA60AF50}"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5CC53F1D-400E-4D96-9498-64C3874E0749}"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4FB2A268-4D58-4896-BB13-5F4C04152B9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9115D97-2A40-46F8-AB05-6E0087784542}"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98A69BD6-1BAA-43E4-8EC2-C30EEFF32B8A}"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9DB0E4A3-4BF9-43B9-AC31-9D2FE7730220}"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FC31D554-E850-410F-A651-3063A13C08CA}"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15F20991-5FF2-442C-9624-A26DCDEA9F2E}"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D1A9F2EE-49BE-4A8D-AC68-F96648FAACE7}"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B9A5D9B2-777C-43FD-A216-D687A928D1A6}"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8E15C1FB-1DF0-40F6-8C01-1F5EB50BFE42}"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78974CEB-B83E-4473-B373-27EAF7D91D59}"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B3EE213B-79C8-41B9-A127-46E45CD17D9F}"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91670274-A1DF-4C53-B4D4-BD7D050B5F2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78B9E68-F8B1-4F3A-9789-04748D668C06}"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BEB33002-1FC0-4579-B8A0-8A8896A87024}"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ECA57C56-C7C0-4109-847C-5C525560F64A}"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FEA577AC-1938-44CE-A854-6521BB43CE09}"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7901B9ED-1049-454C-A027-21377B250559}"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C2AF3562-C385-495C-92E0-3D7EF05FB4B8}"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90DB1EAB-ADE8-4A4F-B05E-4B477CD6CC02}"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18F67420-C89B-43A4-9D89-D5EB53334001}"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625E8C5B-F8DA-48CF-BFBE-4E3DC98D7276}"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1F964302-5387-4CB5-AD2C-8CA8E3BAFE0F}"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B50664A9-CA09-4346-8D99-71773991495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C624B7A-7356-41D3-B1DD-B36F87BEC173}"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F3DBAB55-7AAC-41D2-A7C9-3092EBA7BCA8}"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3C9268DF-E82D-43B3-841A-AD538051B489}"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F15878CD-F623-4D9B-8A9A-C2F1BB5DAF48}"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BE7A9C9D-6F08-4151-82D2-5766598FA12E}"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30998905-2DDE-4ECF-875D-255D44F6F512}"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295BFE6E-6F82-4CE1-B716-09210CE43F8E}"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509671CE-2363-4BC7-ADAE-726ED5601190}"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1B79415F-2904-49F0-8E78-551BA60CE237}"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5A34E004-DDDC-47B7-B6C0-3B96D15D136C}"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FF76451A-A279-4582-9955-254572C0306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AE6522D-19B0-4041-BDD9-72ECA5C2434F}"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01D2F43C-EA4D-4B8F-AEF6-64E6395E8D2D}"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BFE67806-1CC2-4E1F-BA7C-7506C164345E}"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EA488F77-C087-401D-B45F-A25BFAADD66D}"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D0325C42-C35A-4C13-957B-E5F19C1D8C91}"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E915E219-805E-4929-AA82-4ED21D1257EC}"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C7B0B80E-EB17-44F9-9E08-5076DDC15611}"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97109515-000E-48D6-9677-5E0B997B8862}"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A49CA0DE-074A-43D7-BF10-3A2F6634AC91}"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88D54C3F-E304-4F15-B782-137A2880314D}"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F2FF78A6-464A-4281-BBAA-E82C7D86D5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97402267-88FE-46F7-87C0-2EF0E34F76D6}"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CFF872C0-A1CE-4ED0-AD90-9DA479D3B5C4}"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D913D88D-1022-4B6E-AC40-26354B372AE9}"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B906204C-A4BB-4043-A025-345E1C62CFB6}"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E17D2968-0C81-401F-AA55-73F6A4B64A26}"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94DCFB3D-FAE5-44A3-9536-8A0B691E6A07}"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561EB58D-62AC-4A6F-B26D-AA54BA6B0C9D}"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0F14E5D0-B404-421D-A65A-0146E5E20C55}"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8D4B6503-4014-45E7-A250-7516145C92A6}"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C4042A2C-E7B8-477D-ADE6-97BE5D53A801}"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4FAA34EA-49CA-4611-8F9A-483715DBF5C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32E4665-56E3-4371-8E89-91064F1C4E25}"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EC5E06F8-726D-4A70-9B3E-062052858943}"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98E76632-484F-44DA-A2A7-135E4E63FF7C}"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403FEF69-267F-42BB-93EB-1743AF0ACCBE}"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BCC9B1B9-83F9-4AE1-8A13-A93810B9F9B9}"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5E760143-2D2B-4214-8BB8-D870E2B46139}"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0962B169-7DB2-4B03-A0DA-306DAC54ACED}"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CF8C08A6-0BC3-4BD5-8309-95F38F24D8B6}"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7355ABF2-7202-489A-9C42-C446C9BF7F6A}"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35D71C22-F082-4B6F-B07C-E35AEA2CD1D1}"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6C6BC2AA-6D7D-4AC0-951E-82499D4C2D7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7BC4107-BFBE-439C-B857-2564B133F8DC}"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C2E3CDF6-0513-4BE7-B4CD-0A246B999A85}"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49BF2585-1080-419A-BBD6-AA347A864DBD}"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3170E6F5-2FB1-4132-869B-1BA85BFFFFBA}"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CDD7AB5F-0BAE-4574-BD25-C3807E28ED49}"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4897E52D-6C6C-46A1-B9D3-E155036E3135}"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ED66A7C1-F4A7-4386-9D23-68E70D16F060}"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388DB70B-833D-4E48-9108-E618FD9F9AB5}"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7B004A5E-A9F8-4B95-ACB0-602C3D11499B}"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D333E09D-0AEF-4FC2-8336-743EF816DCF9}"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B34F9BAA-C7D6-4682-BC0E-91B007E5FD1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6614D5E-F586-4C41-8587-3FA3534237E1}"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0A779C8C-75E6-4E63-B80D-195A52DACDA4}"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3E8830D3-6124-40A1-BC10-8F47072B1E01}"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997001CB-F2FC-4179-A2F8-074114376461}"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32236D4A-5CDF-471B-85C7-4DBE5D833A88}"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F010B30B-C836-42B3-A325-FD02829268BF}"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F92E4FD6-0137-4977-85FA-37925EC663B1}"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030CA547-78FF-4A3F-BAD7-9F2722E662B8}"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CB6A47EF-35BB-45BB-928A-8A48B1F6DB40}"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AADB5012-C770-48E8-A0AE-AA503E453BF0}"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731AAB5F-6338-45E6-AA15-25849E0B946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EEC46AE-1386-46AB-ACE2-C30FB0A604C0}"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94DD0A3B-453A-416B-8E4A-B7D350CE6073}"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12704799-D471-4CBA-B1A9-4B850B1EF878}"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85A628EE-AAE9-48EB-AA03-4FDB515DFD4B}"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2B847E2B-3F25-4607-9880-FDD959A00122}"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6E98B439-4AAC-45AD-BC34-BA6D224F418E}"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2C42E198-83B6-4826-9E5E-2905227A3CC2}"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60F77FDE-46CC-42B5-9E43-C327B9D52C79}"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B654D68A-F393-456C-8ADD-82FB5E32F5DE}"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C91D758D-3EA7-43EA-AB4B-647F95DB0CDB}"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5502C295-EC2D-4304-B176-214086FDCF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F3C61C-2069-4F28-B8EA-620DB47CC2C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C574C62-72FC-4173-A082-0C5D7CEA00FB}"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C76C6495-7293-4408-948D-C0AFD73823AF}"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5AE6F80E-00C5-4024-B97E-A9C14411A8C4}"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E28C06F3-418B-406D-900E-A0B291F75E92}"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99DA1413-4A69-4107-B4BD-103469B15A5D}"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7F4AC0E4-A96F-4BC5-96AC-18890E51596E}"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677B6579-01C3-411B-9D51-8BE3375EDCB7}"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594F585F-BD8E-4BC3-96B5-ED7D2EAB6026}"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21FC4B76-F124-451D-B98D-62A1C2F5A088}"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B7541BFC-8CEE-482B-8BA3-AB160A02B137}"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B8B01E2B-0377-42CA-A4BB-7473237418D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5EFE7E5D-39D5-4B56-9102-33FF4ECF34ED}"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B4097646-902A-471B-A219-6C43CB8DDDBF}"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BCF25DF6-3EE0-4F96-8956-CB5715065FED}"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C834EB96-2B8C-4CA2-811D-87935EA60C20}"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3C862608-992B-4C98-A363-B630910BE187}"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E278B8C9-B61F-425E-9307-84404FCA49F4}"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7097CAB3-A4BE-40DC-96F9-DCF75174D3BC}"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1FA4BB9D-62A6-46F1-818E-4D6C4B192B9F}"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B25299C6-51B0-402B-962B-382030139E3E}"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F1B6019A-E0C9-4E0C-A939-5EBB43A2C991}"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4C9F70FA-F7F5-46DF-9F11-F14C8AD137B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EDD46AF8-D68F-49B0-B41A-8D534F1CD680}"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B47767B5-4AB1-4D35-A745-2927F27A6710}"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2C0715F3-85B7-48AD-A378-1CDC6B600952}"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4C1326C5-7EAB-4C62-A630-B11A8FBD99A7}"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DD582E57-E3F5-4D55-A27C-91CEC5CF3D27}"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350394F8-2BE5-4381-82A8-4F5CAAD8963A}"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67EFF64E-4A7D-4F57-9BEF-5C2F4BA9CD49}"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5517F396-125C-4E38-AEAC-5AE8D17AA7C7}"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EA3D84F2-BF3E-42C6-8752-AEA560C6133E}"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C0067C7C-77EE-4400-AED9-73CD03420B75}"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AE7399BD-6951-4F8C-A678-59B0DEA8FB4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892BF82-FBD0-4C98-80A0-2F35003CC206}"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649B83FD-E4FA-4191-BD10-AFCE747F8C76}"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885081A3-2059-49F2-89A5-4EA11FCF0051}"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340194AB-0218-45C7-BA25-E25ADA0523FF}"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ACD31B01-143A-48CA-89C7-D380F717F053}"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415170B1-6562-4FAE-8B25-589EE5D62173}"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F1A17D01-E080-4BBE-B33A-E9FF66D97C2A}"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B41F3A88-5A76-437D-9C39-4A6516BFCCA5}"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15569AD4-61D6-4CFF-BC6B-02C1F9D721B8}"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B7ACE4FF-C21E-457E-AE2A-F5F2DD733FBC}"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E8242D9A-B3D0-49F6-9999-9B44467C723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EEA52A8-0C2E-4A26-89C0-427EF4D15165}"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97BD0A1B-A1C4-4A80-B023-EFDE974B3C2F}"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2665263C-D84C-46DB-B796-2C76139C571A}"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A919630F-25ED-4F79-9A09-366019F9718E}"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F119F457-D1B8-4D90-A276-CC2BED1A8419}"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ECE0F3FB-3C55-480F-85D0-35B0DFD2D097}"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5537ADDF-EB73-4F1D-895C-1D58D4EB318B}"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B2DC1B81-E3F5-4A27-B059-E3E8CB8250E4}"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E495012A-0644-4EA7-A911-6BE7B62F6678}"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678FC5B1-8469-403E-B34B-8EA55D3DD6B5}"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4C94EBCE-0639-4717-8FF6-AB0C73BBB14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DEF94CB-FF5E-4422-82BE-1B18E3CC8AAB}"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B09521C3-0D3B-491F-B4DE-6B47A6AD8A64}"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E4398CFF-1F31-4DBF-B6E2-E12BE8E72808}"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1488CE8C-6FA3-435B-A38E-8AE8A2A784D9}"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01A4D0CD-7ED2-4C26-A7FB-13F73613528F}"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9224EC06-660F-4E5E-96EA-3A43FCCA1633}"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2F4C9EDB-0564-4353-9252-0DC8139560BE}"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CCC560C6-083C-4F88-91FE-1FFF15EE5688}"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8DBB521D-1811-4C2D-AD64-34E1B3E0752D}"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EE03891C-B4E2-4D00-A8B3-ED5B40567F0A}"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1AF4990F-E072-4478-BEE4-E66808C5D60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1E9050F-470C-4020-B3EC-A64821CC0B76}"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21C0EA49-7682-499C-A657-F188FDB56781}"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5EA3B5E2-E4AB-46FC-A7F7-52B98BBE816A}"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97DB2684-9BE6-4197-A9E2-BE127090C3AE}"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62A45446-C263-4E49-8A67-0F6ED18D0FF5}"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F1FC4662-9AD9-4C4C-87EE-0BA2649F1C6B}"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FB9CE1BD-BBE4-4FE6-970C-D331CAA623D6}"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F785A4AC-27F5-4062-93B8-1B3B61A8D65C}"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6EDA9F21-CCB2-48D0-B2F7-5EF5A5193663}"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FF2A621E-E343-4E01-B3F6-29117C418C35}"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E6783D28-6950-480B-92D3-87328B46A77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8D7A2F9E-9DEF-4719-95A3-EEBA68EB7C12}"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36340071-49BC-46D1-BBE7-708C27B9D5CE}"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1080771D-14DC-441B-BD79-02967368CF0A}"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0FB1BDC0-ACEE-4796-806F-B8133DF0A6A3}"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FB4D0909-1784-46BB-A5D9-9135C176D677}"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F826560D-29AF-4844-9469-091BA1096234}"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7958D8B2-90F3-410B-9616-A723546D9C1E}"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7C46E3E0-06A4-403F-99D8-B6ADA0DBB73B}"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72D4D311-71EE-4EDC-9CFC-537BDB97B043}"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6BE853B0-1B8E-45EF-A79C-294CA1EA6138}"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88DC50DF-FF6B-4885-A69D-325339029C3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55D9EFE9-3A1F-4E74-91A2-32C3625DA153}"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D290523D-8E50-4A62-A120-525FF8ECC0AE}"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D7894019-156B-4F96-918D-169AC0B6516F}"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9F4FA11C-B0D8-4B69-9F97-AF6DE6B2FD9C}"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0E04EB23-227C-4757-9B86-70AD5A9B105D}"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2A2CFEA8-61F0-4AAE-8FDA-5010BE5011A1}"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579AD017-BFCD-492D-8C91-4AE40CBADC48}"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697872CB-A8FB-4E01-BA9C-F9E6B9E142C0}"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1CE80559-6823-4B27-95D6-8AF35E12DF57}"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D2BBF6EA-9AB5-4F33-89CB-9FBA44314DB2}"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B232FA3C-5E5D-4D2B-8CC0-A36B96E2A91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A4ADE84-0761-42F1-984B-E966B59CF217}"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7E792A2C-5390-437C-B9D7-8C8C72056F45}"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AFB25F13-22BE-441D-8C21-C3D98D425EE9}"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3912FDCF-7DD0-4C73-ACB9-2759C8125702}"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0BE9CD20-7F52-4A0E-8A44-5B61E74DBFEF}"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B2AD7EBF-FFBB-4A41-B402-7FB7BDABD8D4}"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C4EE6B92-250C-4230-8CF5-736942241927}"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875A89C1-FAA9-46CA-9844-9490F94C2609}"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D5AF56B1-40CA-4F96-9A54-CCED52A8C71B}"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6E773CB6-1FC0-4622-B9BF-FBA5F6DA6D11}"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443823BD-7910-4A38-AA6E-2C64072E7C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5AB1198-225C-44CE-935D-D08D0D8E498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94A4BE4-42D2-4EE8-8B38-196D7F6755DC}"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924C4AF6-C8F0-4B0F-9DCD-787EA3B60F7C}"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76FE52E2-BD48-4859-80B8-CCB1D88A63F7}"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62115D09-C360-4760-9B2E-EBA6B61D0976}"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6ED3F684-74DF-4189-9BD5-DE1266E06EB3}"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E11FCCE5-C0B3-438A-846B-F48AE8E8922D}"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B982049B-3605-4AA6-A2E2-EC1CC18438E1}"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EBC70B09-AB0A-46B0-AABD-9E7DB10D735B}"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1C02B292-036B-42C6-B303-D8B9392A2756}"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27E20058-4298-4F32-A940-DFF5B87FF9A0}"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B0D8612E-36A5-47DA-8DD2-EE09C204F54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D6E5D77-1365-4C40-BF0C-438B1957865B}"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65146015-EF65-4B1D-9BD9-23215D2B28BD}"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3552BB00-D196-4B74-A3EF-1F5D5313B00B}"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B35E93C5-E582-468D-BA31-EC5A9DF6E8D0}"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93651FBB-4354-4A10-B651-989DCF5206B8}"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0AB6EDAA-E6AE-4ED8-8775-BE55190CD1D1}"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5C0F4CED-E807-437C-A135-4C22BA9B37BF}"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1A839EA5-ED95-4B12-A1C5-BC95DD474CEF}"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3F282A78-02E8-44F9-B00C-5288BE238B5E}"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14CA8BB6-F76C-43D8-AC56-38FD43ADB461}"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5ED2834A-644F-4483-8796-EEB8DB69E72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123A07F-1C51-4E25-B149-6C8A4575B459}"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2FE8A1F8-29AF-4756-A18E-1A1EB4D08DBB}"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CB4A28E8-75EC-4D9F-9AD3-504F9D49CEBA}"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BD5C91E0-5649-4C3A-885F-075450B694F5}"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D9E37DAC-8D75-42E4-8A0A-ABFF26EC16AE}"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5462B234-CC33-468C-9DB9-245A31ECBF4E}"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57690E68-AEE5-4454-A3F6-6C5D7AA5EAA3}"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CA550733-5FEA-4F76-BBE5-47C12DE4237B}"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EF418D48-8A16-481F-B715-6576201DD390}"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396F2B16-CD07-4E43-A924-2C674757EDA0}"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93C86136-B958-46CA-ACD1-F33C048EA5B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43F1687C-2E21-431E-B00C-40DEB796307C}"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3AC7232E-1A16-467C-833F-4EE8078CB5B2}"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A8D9FEA2-9B7D-42C9-8FAA-0FB33C63FCD0}"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253608F9-70FA-488C-BCDF-879648F5083D}"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4C3FD601-F2CF-48BD-9FCB-B3D1211EA86C}"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94B261AE-FF93-4F17-B9E4-3CF8732A86EC}"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201C9083-A0A6-4FEA-ABC3-50D6656E6A07}"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AA6F09F2-017C-4EDD-A875-9BB9E79B28ED}"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68FC2EA1-F3B9-43C9-8FD4-EA2CE42BF690}"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C2D91B75-C6FA-4F51-B163-60B5E503964C}"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A424048F-59A8-407E-AB0C-29B20D4A26B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69C3F1BF-3722-45D4-90F1-9FB7015408AA}"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581D780D-47BD-4993-8D92-FCBE685B0766}"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E9206A87-097D-4BE9-87F0-15761129F013}"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B9E26083-DAC6-4CC6-82D5-B786116B3B41}"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D7082E9E-FD8A-48CA-8B72-6F49FFB28972}"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96BFA2BE-82B3-4F8C-A37A-FE5E96DD93D5}"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7BFBA850-C8D0-4119-9AE5-12BEB685CB51}"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6FE2071B-1332-4BEF-B76F-B36AC512E118}"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83BD7869-5E03-4183-B0A3-BE90F0E6EAE1}"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30A4349E-0261-4FDE-B166-9745F036E26C}"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08E24824-3484-48B6-9F33-5438BD8EBA9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5D08158-A709-4714-9BDC-88DA5947BE2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77326935-D22E-472C-A8FB-BB35EA82EC99}"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3F97CB4A-7CA2-4E64-950D-3472738AE333}"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EF408BAF-7816-4329-B296-588E653A4538}"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EA3D1C7E-695B-40CD-9F52-DA61A3EBDA80}"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1FBD8DC6-4829-4DCE-A6C5-6BCB3483E849}"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1B8AA4C2-6EBB-4B9A-B5CD-D0D565B91AF4}"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CC20CA40-928F-41B4-A695-F7AA4148543E}"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54AAC48E-A31E-4C80-8C77-0DA8112C31E3}"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C9C954F1-8D36-4E35-A9E9-34AEE42E3E34}"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46DD6F21-94B5-4750-84A5-76FAC00B1B6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F6E1D69-E90D-4526-950F-B3DFBFDB13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37F78C57-70A6-4DA6-921C-53FC575BBE10}"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6BA53392-CA71-49BD-9F25-BC2E73159D26}"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DB8276A4-687E-4A8F-9CDD-077DCC333101}"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81B177BB-F0B5-4BB9-AD9D-7D11CE433769}"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35DD988E-3B59-46C6-9559-F11126C6DBB3}"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FED036C8-3451-4600-9417-2F0D51AB6F75}"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D8122D1A-CE03-457E-A601-76B85E8B4DF7}"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427E9392-D2DA-4CD3-837D-B946D5BB4A4C}"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52854A19-A63B-46FE-B929-8823880BCEF0}"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BE294D83-0009-4C5D-AC2C-79383940DDB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BC83A61-004E-419E-A8CF-7DF9869E0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BF8B03AC-FD40-4737-81FB-EC4F0932FF12}"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8BE0DAE0-8BF4-4B6B-93AE-DF203199F7CD}"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6F0D898E-6581-423D-9179-FD52D245ED08}"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7433990C-50BD-4D31-9C58-5EAB5FE4511A}"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FA8029DD-A8D2-47EA-918B-B36E162BDDBD}"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9DAF623B-1C48-4555-8AE4-2C6A37639286}"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89355E6C-1325-4CEB-8971-30FE3E3AD960}"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66E08779-F989-48AD-A009-074F919DF191}"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0553C57F-BC40-4BDE-978D-3230653639ED}"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6033FD3C-E694-495F-A2BF-CD9C615AA02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12D2BC4-F267-4799-8052-ABA8898913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201A07E3-F9B4-4676-88BF-F01A8C3C786E}"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B277E2DA-FE6D-4F8C-AF83-2F5EEC8431A5}"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A67A5464-AE1D-4CF9-BF75-848E314F27B3}"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2BB52F1B-C9FB-4D3B-816E-C0CBF1F6D846}"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71CCDCE6-69A2-4D12-9D3D-62BA5EC67019}"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185B1821-BC9D-45AA-AB4B-B58E6C3C2FC5}"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79CD89CA-659C-4C47-80E8-5B0499601B17}"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91C5CE62-1892-44DF-9379-77295D64A5BC}"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484BE02B-7DA3-486C-940F-BD5AEFE42E55}"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1A5EEF7E-CC8C-4EF1-93A8-C52222205B4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EB0F5A5D-4A3F-44A8-A71B-E3483954FE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56F7DF6C-53CA-4E77-AE7B-CB6EC1B10016}"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CD8E9106-7112-4203-B501-FE398DD88F21}"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E5AF9DC9-8E2C-4E69-8EDC-5D7DD13BFCBA}"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63518D8D-0249-4595-9315-91A6C0343716}"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4A998201-DEBE-49C6-8DD0-7EBF6FB65A5D}"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5F4F0E14-2965-435A-B93E-60E2582CE28F}"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4CDEFE0E-15C1-4A29-80AC-D6AC405E5A3F}"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7F686FB3-F441-4FEC-B0E3-B94583F46711}"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291A9B82-02C4-46CD-9642-EC61C282E013}"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D5D37D30-291A-4A4C-BB0F-8F38BEAD23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F3081B6-6CEB-4A57-BC34-204861E1E34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B470AB5-2474-4292-B1F9-39D16091A9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7391F96C-EC09-4E58-81CF-EE4594C9317E}"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C03946B7-C523-4888-9A42-76D989A4EB2E}"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F43841FC-BD1C-4B2C-8613-FEEBD8E7FC22}"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B9E5B916-3044-4030-BE21-E6139F5FEB9B}"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24D61101-A436-4969-9AB5-F31E42C1ADA9}"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5BC0A315-0719-4C3F-9A5E-9880D73CC59B}"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3D150FE8-055A-4C1F-B0DE-78B89B2A103A}"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7A085A82-AA83-4C29-907A-FBFFC6EFD543}"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2FF6F661-EF75-4FEF-B294-62A815837717}"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C2913275-DE21-48D1-8846-4993F0A28DF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121BD35-4ACD-47CF-A42F-F9D2BF9C46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8ABBBF46-1C33-43EB-842E-219AB954216D}"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EFE4E3DE-212C-414A-A06C-DAFDE42759D3}"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E1F243CE-813B-4289-8771-DE174ED36189}"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8C8A3D1A-E0CB-44BE-BF9D-C728DD7C18DB}"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56F677B6-936E-420D-B76E-6C6ADAEC0B1E}"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C7D36F27-65B0-4C94-A33F-CAB75C789057}"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AF057E2E-FF34-4F93-A369-460448CAB331}"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368283FE-0C3E-40E4-B5B1-0A338FDECF92}"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49663A23-4330-4E89-9B8C-7297BAA8E401}"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F9995D0E-5DFE-481B-87A0-5DB76BA4818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F8C9A6F-03B5-40FD-B0DD-F30C3C1BEB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C7CFCBAB-6C25-44FF-914E-884B51346EBE}"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AA5B0590-F1BB-4B70-9A64-1DCC08D8C50F}"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A2726ED4-6EF8-44A0-982C-44873C1AEE28}"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ECE9386B-2EC5-45B3-863F-AA882BADEF1A}"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8EA318AA-0073-4D7D-83E8-3D950892883C}"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77EE739F-0D10-4CB4-A14E-18869DBD56AB}"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C386FBDA-5891-426F-8EDD-63D6EE9ED666}"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7E2030D2-77F9-4B12-84D0-EC0FC02D59C6}"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786DC79A-933E-433F-822F-44AFD01DBD39}"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A1CDDE54-1960-4F75-BD7D-23D848DDFC6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1E5D05D-8D9A-4983-8633-83E77E612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04A814A7-64BC-4B78-9DD4-1DDD97BB2639}"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AEFCCBC6-C070-4919-8939-A7C41CA585CE}"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1D98A8E5-305D-45A4-8CAB-A52BDB856C1B}"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F5C30FB7-EE58-445D-A57A-97D15B274316}"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2AAB5A46-632F-4E2D-AC43-4FAC28ED35C4}"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EBF7C9D4-FDE1-4253-8B8E-8D5B00758DB4}"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7871FFB3-D313-489A-B29B-63D5AD45FC16}"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6D5596C8-16DD-49BC-9C1B-D98405E25DC0}"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D1989AC9-39C0-412F-B6D6-3C8FBA5EF842}"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2115FFE6-BDD7-4B9E-953F-8E2511388AC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0D58040-248D-4845-B509-7A8695E7DC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C6D84C0F-0500-4B17-89B7-6455C9D376A7}"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21E084FD-330C-4C3A-B839-88D3B0CB7664}"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42822752-8E87-445B-9FDB-0A9BFC921DBA}"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33F0F68F-7056-4AFE-876E-143C995141AD}"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7C4C6F64-9DDB-45DE-AE49-B1E38BA0BB13}"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92F37A30-7ED8-492C-9972-95201886D2B2}"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D72E9D3C-5913-414A-99DD-0F24550EA1E0}"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8A026735-A43F-4A20-AA43-9D2B8DCECAD3}"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15BC12E0-CE40-407A-98CA-D729303731F1}"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086C0BF8-3311-4F77-8E44-32669FC8497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3005FAAB-7664-4DF4-AD92-C5B0F308F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C5075213-C5A6-4919-A1C4-797865DDA674}"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17ED2C06-307E-42EA-9169-EE4ADBC42CE8}"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480F9392-F9CA-44A6-B0F7-76C4C3DD3A37}"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CAF66967-90BE-479F-9E4A-B4219FE56347}"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7F5E77D9-A3B9-46FF-94AB-C4362B762432}"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1C65FCBB-515E-434B-BE22-9193D13161ED}"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42C3730B-73DA-4BAC-A353-35BFBF4E9E15}"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3518FACA-BD61-4C56-9F57-5ECB0F9C3E40}"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7F02FF77-E1AD-4BF9-BE6E-6D9599BE0FCB}"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F2BD1FCB-3FE9-4EE8-9C4E-CE4B65BB9AC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765BEB07-8181-4FC6-8BDE-68C0DF96F54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196233F9-AFBA-46FA-A515-0E3FF89CFB7D}"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445B4316-1FA2-4945-A872-5460412FF2AE}"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36B1D80A-44F6-4808-92BF-81BE23944291}"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377F9DE7-2DF5-4B0D-A772-D3E1F04917AE}"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16A6E218-E776-40AD-B727-764630D0A1B7}"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019DDC23-59D5-4E9B-A621-56297EDD9E57}"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2AA36679-F8A2-49F8-B3EC-6B64097A88B7}"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81BA8F63-82A3-4C54-9E44-34839D44DA4B}"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84780399-0E9A-4EC6-9755-08B69601DD65}"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CBDE5114-149C-4003-B77B-BD4B44B4D5A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719C713-E5FB-4B0E-BA98-45BFAB7096F3}"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4801A13D-BC8D-4F0C-B462-4FD11FAD6AFD}"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71B99600-C19F-4259-B0B0-A045E4335533}"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6AF2AA5E-39BC-4FC6-904A-0426FF1877EB}"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BB9D7713-27E0-4A4D-B4D7-F4A048F91A25}"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5B00A88E-C63F-4758-825C-7C7E02AA8931}"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184A0E35-2A60-42B6-891B-951D46155286}"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20FD1951-4954-470B-981A-77EAF70F0170}"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A33A27F1-32C1-4889-B424-8EA986CCB5F4}"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DDC9A0D9-B2A9-43BC-9BB3-EF287FD18E00}"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212713DD-5457-426E-B2AD-80C9DB6B645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0303BA3A-2892-4BBB-88C5-32F52009E183}"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DD4E71CD-3C5B-4126-BCA0-2F9CB02A20BD}"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B5BF5D1E-14DD-4B8C-8114-CE71AD7EC77F}"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9C770853-B06C-431B-928C-773CDB75621D}"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CC981C59-C3FA-4680-A084-D4C82A9650FA}"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06A72B6C-40A0-494E-B9CD-C9EB40AF8806}"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AC2FBA07-90AE-41E1-A36E-B3D38A40DF39}"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9D51240D-3FC0-4ABE-BB1D-CCE3B879AC4B}"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3A1483EC-9D4F-4D02-84CD-12EE4CA518F2}"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B9CBFE87-AE51-4692-A2B5-2F8DD0AF2435}"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5E7F2522-919F-4913-8549-494BB053C3B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9FE03CFB-DB0F-40BC-ADBB-FFE0690C9A6A}"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0332B645-0B65-4862-AECC-9C3F92870BB8}"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4C4B4E36-ACB4-46A6-B116-5BC5CB10590F}"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510DC44A-ED87-4487-A623-BDC72BE3614A}"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B93D0F4D-B7E7-4604-AFBC-A53ACDFBF7B1}"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AE6BA6A6-262D-4D7F-9820-9A91FCB954C0}"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E614B9A0-B1E5-4020-98C4-3378B68455D4}"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C55EC67C-5DE8-4FDA-9CA6-E2ED4F373653}"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EF962A0E-462C-4AF1-BD01-955241A95BE4}"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FB0E0DF1-130B-4DD9-84DF-70BB402D881F}"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F8259E94-C4B8-4C36-B713-72082C376E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FE6AB0A-4F54-4BA5-8729-81341DF6481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86C297FF-63F6-4DF3-80F2-E0791E2BB8C8}"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3BAEA34C-57A7-4B3C-B397-500FE832375B}"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4780315C-0A4B-4FDD-A82B-830A2615E6A7}"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88CAE42A-4359-4C4E-8FD9-FB004C5014D4}"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ED323946-B812-420B-B11A-3EEFE0348BB5}"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C9036C9B-4734-47A6-B79C-D7340B261E31}"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F2BC4C0C-BDB6-4509-8B4D-5814EE722C00}"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8AD508B4-5BF3-4477-9997-3C2DF7B0D184}"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0E72EBCD-EE27-45AA-87AE-F8C15F5F407E}"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ACF159AF-8A7F-4006-9843-5A1EF9FFD614}"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5C9E4CB8-40D3-4124-82ED-CB918D72216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38A3204F-B622-41BF-859F-CD7B4CEA0917}"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A3FBE687-137C-4F2F-BB7C-ECDABDE685FF}"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CC4B1036-664B-4E61-A991-60538DD93A19}"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7619F146-CC78-4F45-BC00-418B81A7E2F4}"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83F74F7D-DFBA-43D7-B2C8-BF03FE260E18}"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5A3766A2-C139-4BFC-AE7E-A6517E9EAE64}"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E9391320-C2C1-4934-8420-703C57DF288B}"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D9067854-31A7-46D7-B370-26FC43C3FE42}"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C7B059CE-598B-45D1-8D08-F459E9C2310B}"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324FCE12-FECC-4594-8423-A7948C97BE6D}"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C5B3E076-1F96-4495-A436-29C200EB1FF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31F493D9-B5DF-42D5-AB97-A3C958E9A054}"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24EDEA16-675B-4B82-823A-DD9456ACCB90}"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864962E2-9B9A-482B-8E5E-6162BFAD7D57}"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207F78CC-CF4A-4440-8478-F82C19AA2A78}"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48C8650B-CAD6-48FB-BB07-02F0BDD8CE08}"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0F5336B4-85EA-420C-81E8-F66AFC823048}"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2A87FAC1-7240-4EA7-8AC6-364DCB7F306E}"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8AC07E9C-5F1E-4587-8C00-4356A1238E7C}"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8C4249B1-C715-486E-94E8-8DAB596F7D2F}"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5A7B4990-57E5-4D55-B727-C62D7DC64FAA}"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CC8232EF-F85C-4EF0-8821-820A30EF5A4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9B186557-B15C-4E07-BF5A-6ADAD73DD989}"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94FD8A59-3BE3-43D3-B62D-54A55572A65D}"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A8871139-4993-474D-A8DF-3E5104CAB800}"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23044F30-D4BB-44A9-A83E-76F6193E0EC6}"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A5B9A613-C5EC-4271-8DB7-8C7F58919CD7}"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E4B5456E-EA57-415A-A822-FF4F9F97E67E}"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340B8368-6C51-4907-BD0F-7CC02AEF8C5F}"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39F3A367-FBF8-4B6A-B4BA-EB0B5E09711A}"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87E5E0A4-86A5-4006-AF34-2D7AD60BBCF8}"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44DCB909-B3C0-4F84-B47F-A982B9CF1F73}"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E89CC96E-068D-424D-AA5B-7EB682C4AF1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62FDBCA6-ECE4-4985-9C90-3C4266F78A2E}"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B4FF84C7-E0A4-42C5-A849-4192048A6A04}"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65C05C4D-01EB-4F44-96E5-482836A2F85D}"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81EF3A93-3666-4D6E-A11A-D16F7F299F1B}"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AEED1B0A-514E-4D6C-B991-8DCFB2EB0280}"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F9A9D4AF-4A0F-43D0-8EA2-C461ECC9D2D8}"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15F57968-77B7-4392-81B0-B4C991D21771}"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C74DC797-4EA7-4964-A9D9-5290ACF7B3D1}"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90391120-7035-48C8-8E8F-CAF786C8F147}"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0FD1B941-6D9D-4297-85CB-AABE4FD14507}"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2F2C4F52-BB68-4199-9354-2D312109AB3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45EB8E86-A9CB-42C6-80FF-C5BFC6D1CB1C}"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A4E1DE37-CC56-40B8-B1C0-8A6B29EE97FB}"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40D7C8A5-168A-4439-9931-B62C371ED45E}"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A53537F7-6D4A-4A47-A421-C873A1076A7D}"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23079334-1808-4674-99C6-B1CBD7FEF4C2}"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D3B635D8-D2C1-4D4C-A986-4BFFEB8A5A5F}"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899A5F38-A281-43FF-82AE-9F3AD118BFED}"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8E995196-99C5-4D15-9CA7-94B03C50C6FD}"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B3BA04C7-1A80-4B9C-9877-963A02A4FE1A}"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402241F6-B518-4892-B57A-32E9767A1424}"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31E18EBE-CD97-48A9-9FA6-66AD58A9162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6F9616B4-8315-474E-9326-A362B19D8465}"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357D192C-DEAE-4417-82AB-FC4BF05F6419}"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95CCDAC5-812F-47DD-8128-81A4B17C5EA1}"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CC80F46A-3369-44EC-A6C9-4FC11490CA41}"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C334DA76-5567-4A07-9DA7-E7890E01B3E2}"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6CE6EE1B-3C1B-4C8D-9E25-75275176CBF3}"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98EA31C4-C2EC-4343-8893-0C106DEC56AD}"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FB59B7F8-5559-4A16-BE22-7C93B85A5323}"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B8F74C8C-A4EA-464B-BF5C-1C355FF37279}"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080F1851-AAFD-479C-81B4-FB2634D57D74}"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17EA6F3F-8A3D-48EF-AD66-22106BF2DA2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B3BC3F25-2265-4ACD-A622-522D30325412}"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9494AE63-28D1-454A-9B78-4D7CA91241CD}"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D8AA57B7-3002-4094-B26C-85A391A3D5B2}"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65EFE3BF-412E-4BAB-A8DE-45A6E796A870}"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636C4EEF-6B2D-4476-B55A-C12A48D8D723}"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EC89FE75-9C0E-402C-8703-E9DD5986F6D5}"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E48EB7FC-3D29-4956-8BC0-2DD4833440E9}"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E8273347-063E-40F4-82B1-6549E2ECCEB9}"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684F6486-21EA-4D63-9B55-B0FB685BCA38}"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242DC413-24D6-4618-8FF2-15897799FDF5}"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12765DA4-5701-4A77-8CA9-A6040B20EF8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26E5377C-46EA-4B72-BEC1-C40C770B626A}"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E5355E18-6244-424F-8734-75838380D9F5}"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A957987E-4DB2-46D5-BE24-E9B324C159A7}"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D18BAC37-45DF-4417-93B9-C648F4831792}"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09CE5DE2-112A-4D1F-845F-CC7E5DE8D316}"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A32F33DB-6DDD-4690-B22C-84E3B602A0B2}"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EC928E12-4BDF-482F-80E3-5DF5AC8C8BE4}"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C8CB0766-B9D7-48FC-A1A7-5EFD722CF2F1}"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F33A3BC7-CA89-40ED-B8D9-AFE2B0F02A68}"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29CE4B00-E146-4FA9-9AEF-8FAC7C678126}"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E0C4DBAB-7DB2-44D6-B2FF-5050A2A0A39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529EDB5-1A28-4325-BB03-B3E22DD40692}"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261CDB98-79BA-4265-A202-650F76EAED92}"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BFA16258-29B0-4FC9-AA13-604BE4EB4753}"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0C2B3B9B-6C9B-4B3F-BD93-1D97364B9303}"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82FF8414-57B0-4B68-BABF-EB8B9DF217BB}"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C0257361-7648-4205-AA8B-85BB46F0A088}"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3EE662B4-ED56-4BAF-B7CC-B55281377BC1}"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7F1DAF7F-C561-4CFB-851C-946B04939450}"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4D8D075E-9EE8-48A1-A333-59D7FE868EED}"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DB95EBBD-B948-43F4-B680-1190E9C94678}"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EE58D09A-6023-49F9-8787-7B048C17E8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6EDCEF5-AB4A-4CB1-842A-DF952306B49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A41B9E0D-21D4-41BA-BB1B-2AD7ECEBCCD7}"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1770B29A-25A0-4CE2-A232-EC48B84999C6}"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E7230D06-9124-4810-8FA8-73AD4E574453}"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C76D7187-8FA6-4C7E-9523-CAE4F916C070}"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47388793-361C-4725-9704-B564A9E53ADD}"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CDE56436-9E5D-4853-B804-C83933015A99}"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060FE016-A942-45C2-A814-0125FE053FD7}"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C9A9D479-6A0C-452D-898E-BB95E4F3164F}"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7C3B7A06-4C15-4258-AF8D-94CDEBD2FBEE}"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3C5C262C-C801-4BA5-9FA5-CF570BEB8E5B}"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5C2FF198-4646-4674-8D50-C00B2CCC930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29385F11-C0E8-426D-A5B2-A3B20924EF10}"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D3AF6172-2734-45BA-91F7-A31E7ECC5F96}"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AAFCEB80-3FFB-4BDE-9D3D-71118591746A}"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356E9BAD-57C7-4C80-83C7-DE8C6E65B0BD}"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FBBE6829-A1C5-4F1B-BCBB-6BAABD2E3F14}"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38E4DF46-102E-480E-87D6-49DD5EFC6EA1}"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78770338-3169-4FD3-B389-31F77F6584D2}"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EA41D654-519C-41C3-9410-D5ED29D3E36D}"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231FFB46-A073-45C4-85CD-3711CC7CCD42}"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63490611-0ED0-40BE-BF98-02B4BD1F21B3}"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7F8807F9-3C10-4AD9-AB38-1EDB31E8733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146AC563-F08C-4D57-98B4-BFC1DAD47046}"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DF07A972-F427-48CE-A8A4-840F42717779}"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AD440C92-F043-4F3D-B96C-BD27DE0882DB}"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C6683578-6C77-40CC-BBE0-A62C2887E424}"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3F15C2AA-E944-46B0-91E5-87981B8508CB}"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89139E8C-0600-40C5-B362-9EAE96F9530C}"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DE69A2E9-B3D9-47DC-B359-55C1A6D7657B}"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B383E79E-D5E7-4E95-9530-D00CA94F788D}"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E5AA35E9-DD28-4E45-B158-295337B06CB9}"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68EDA2F5-345E-4022-B3D1-DAF972CCB050}"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07F7BD69-4640-48FB-AA6F-ADCD710DF3B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1A69B03F-4AA4-4331-89CE-1DD443C05488}"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2A8228FC-5A10-4F13-B4DC-59A40D59220A}"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95D57109-CABF-4F6A-AB32-1F9ED3CD28D8}"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A8D24346-72FC-49F8-9777-5838D41D6134}"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BE7D2F55-B183-4B21-A6AA-69B86B5044B3}"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2B0DAEF6-2704-4234-9DAF-5BCDCD4AF762}"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1A801047-A71C-4F4A-9943-680824F744A1}"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346EFCDD-DBAE-4084-8C97-4A929F658E0C}"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ACEC2A4A-8BCA-4E0B-8E7A-37AE6E23B20C}"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52F477AD-283F-4214-B6E8-4436A88A6017}"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84E506AA-E517-48B1-AC4F-70CD7C28F95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B09A7AC2-E119-4AE3-ADA1-E0F9692D5F8B}"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E7F47D89-D595-474C-BDDD-3DE09425F45A}"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1EEB7B6A-EEB8-45F2-8967-7A20AF305DDC}"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896517C5-B1A4-4D05-961F-25045657F2A4}"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D74C2FA6-05FD-4B92-B9D3-EFE168231D60}"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E3E19E15-1604-4597-B63C-77606C0D7233}"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4E4FB97A-46B2-42CF-929D-17E861A43752}"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D01DF671-FCF0-4175-A9AB-B4364FFD9467}"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780E2D3B-7292-42F2-BCC4-874D7307FC99}"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FBA72B55-161D-4F00-A992-2747565F67DB}"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5B05D33D-27D9-4C50-BC95-905B4C35B440}"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6A11B41F-EA97-4164-BE20-4038E80C4228}"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AF644332-DE88-443A-BF56-BE540794E36F}"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B495F5C1-53A2-4A5F-9428-8155232E6817}"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C3EE8E2C-9ABC-46BF-8F84-5C0E7013B72F}"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5C1DB2A6-2868-442E-B540-27AE8D15DCDD}"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E77E3C76-2BE1-425E-91F8-D08BF581C8C0}"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8D38D41D-FB07-480E-9436-102612B8E9F9}"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6D908AEE-33A4-45C5-A459-2426592ED8C4}"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1879BCAE-EFCE-4FC5-96C3-613C75FE7548}"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DADB0245-E822-4D13-8FAB-0CFFE210A16A}"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63F91895-A982-4F57-947A-AF67FCD46AC6}"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A9FD9FD5-3D40-495D-B26B-87E1353FC1B1}"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3F6F2FE1-981D-49B1-B1E0-7CD5D71867BF}"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FD86C0A9-7D43-4B14-9517-7C2C1B5AD524}"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ED64D359-73A7-4EDE-AD52-BA68103F2789}"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7B760F23-7E51-4C33-9897-914C7B51A4DB}"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6D89B517-ABDC-4C75-B143-746391CFE276}"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05452ED7-FDFC-41A9-9C9A-BC8C031CEB0B}"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B8624BC8-C0AA-4A07-A852-3AA303D25EA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2D7663CA-F1DF-43A6-9020-82293D4E5559}"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91D2E3C9-45FA-4128-948B-3AC4204F543C}"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51E23112-738D-49B4-AB9B-9AB82157A86E}"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A0AB9696-6ADE-49B0-BC22-E8680DE75411}"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07DF60A8-1EEE-420B-9E41-44C903CB081B}"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4EF07620-7827-4CCD-B5DF-5C5B6F0F687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BB30EDC5-10B0-4221-A722-1EA70A43A3F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99EBAEA0-38B1-4F6F-AE05-79D8E836BC4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80B6A106-E5B9-4EEF-9137-E5CBDF47059B}"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B0970168-B4A6-4C45-B57A-B67074F89F4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CC875286-742F-4467-9011-B5C8EF80E419}"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19FB44A1-9F87-4A19-97C3-FE878B79AED8}"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6CCC109A-7EB1-46AF-9A5D-95CDEB97CF17}"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7A4E95B4-C89F-448A-8C03-172C83CAA54F}"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41BC2E69-CD48-4C3C-B448-3EB784948382}"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47836AAA-4BD5-4196-A214-EB5A78EDCA49}"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8541745F-593F-47E9-B35A-A0E29F64BB31}"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BE923607-4DC0-490C-A5DB-2D32FF6C0540}"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8EFE1A8F-D532-4BE2-9A3D-CC6F2A325AF2}"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6C5A0EB6-4E39-4FE7-B47B-996D9D568AD9}"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B6F71F4F-F0B3-4D44-B8F8-3453CFBD7FFD}"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811ED019-D861-47B8-9C5E-5992C24170A8}"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4C5E6916-43E0-4618-8E79-7C586A64419B}"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BBC10319-B1EF-4A69-8960-CA03F5D0AB94}"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FD8D409A-BDC1-42BE-90C7-C5EF70F5BD0D}"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41EFCAF4-678B-43EE-851E-8C11B196AF3B}"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7AD12015-A943-4832-8D19-EA2529DF8B5B}"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A84F2CC9-B210-473D-882A-509481A94C1D}"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4C8C60EA-68B9-4143-835A-62B3DA621F5A}"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622A8089-47A2-41FA-A039-13730263DAAC}"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4E9C9F31-053A-41CC-A1E2-3F94A4E2F575}"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8AEA6AB6-0686-45B7-93C4-55F2FD76782D}"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BFDF9E54-1633-4983-A229-E6FD53EA65ED}"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614B2315-0023-4298-96CB-15836038AC64}"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55C63720-45D7-4957-AA4B-5D43A64EDE80}"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7768226C-BD53-4BAA-9FC9-59188560FEF0}"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7115099-6931-42FA-9B64-E05F40464DC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84798C9E-1C54-4B4C-AA41-BBF54246B54A}"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3FED575C-75B9-4102-B3BD-503C5DAE24FC}"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BD79883D-0E6E-4221-A097-480790DEEEE6}"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EB248EBC-0EC6-4B6C-B831-5D070D1D9E27}"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AB3C22A9-F094-4F1F-A28C-07118C6ABC1C}"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1A2A76CB-8C8F-4F14-81C1-727EBA3DC381}"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E2173E58-F171-4472-8AC4-6C2DFBF2D571}"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80695094-5BFA-4DBF-9A7D-0F962B0A6CC3}"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AFC5A737-0669-4262-9ED2-C49BB57A3B0D}"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BB54B5F1-AC10-4A29-96B2-46F06F0D7A60}"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2E802B6F-02A9-48C6-A9E5-5AEE5A9A1C6A}"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FB7E2D4-6021-4DD9-9954-FF6BF51D7169}"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BCF23905-3CA9-4931-B854-2DA63650FA50}"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D1135244-475A-41FE-9169-1C246AAC2054}"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521F386D-1E9A-4BD3-97B5-58A4FD8E2F07}"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8B20C58D-C9DC-4858-85F9-36A4687EB4D5}"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F1323DB8-71A1-4EE0-B142-411E0518BE19}"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ECA59C36-E05D-422A-9A2A-44BBAC2A7F2E}"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56597A94-FCAC-4BC3-8EEE-FA77D205D3A5}"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B01C20B0-DFA9-4363-A9D9-42D4AB0C6BFC}"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9E3A6295-45E3-4290-8FE3-451B442CEDE6}"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C85E7FEE-FCBF-46B9-8BAE-44781F5A8013}"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FEF43ACE-5C2D-4EF0-A34B-09905AEDE8D7}"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D8D6A9FD-D807-436E-9D15-2E7D40D18C7A}"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E76D43A2-49CC-4D3B-A033-73F6DB22102B}"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AD424ACC-A55C-45C2-8953-0DB0DD99CBCA}"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55C53A58-354D-4B5B-8023-4D1C0D8A69FB}"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CC888384-3509-47EC-A8D1-94FB4B1EF657}"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10824C63-7548-4152-BE5B-79A6C81D9FE2}"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2F87ADB8-2675-496D-9428-EEB771F875C6}"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1BFDC48D-EE84-4568-9A31-95AED9BE70EE}"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8B822FED-DCEF-4DB9-BACD-B41BF2D86018}"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2C50E5EB-AE2A-4EED-B83E-D83A069828E7}"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57D50606-556D-4E6D-ADE4-48BEB038F45A}"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33258AFA-A7C9-4CD0-9820-AC96AFBEFC3C}"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83289044-BD3F-4821-BFC2-C956715BE6B7}"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3ED12DBC-FA3A-43D6-8AA5-E8C494900B61}"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1FFDFF3C-A75E-45D9-85A5-AE4DC72A8264}"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F8650545-7C44-4DBB-9A69-17902D047E31}"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9B414DD4-5BAB-4456-8765-0B065FD8CC4B}"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72297AA3-595C-43F0-8D43-F65E33263189}"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26177205-DC30-46F1-AB71-BDEBAB7E232C}"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85561B39-FCA2-4B1D-8234-A9F1791E6BF6}"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4C7BE7A9-4D5F-4C2E-A448-E671A05392C7}"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78172EDE-45EA-4405-85F0-60126B8D3F64}"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246D338C-A5DF-4C95-B40B-49A66D6B23AE}"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73ACABDD-788E-4826-9266-5382220A9D8A}"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FB49C7B9-5439-49EE-8D1B-BFA21B27B8B0}"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48D06D09-85DD-4BE9-A5A5-BEEF0B7773EE}"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6A6B7FA9-F39C-43C5-8D44-9F5BC5A1CC47}"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51BFFE91-631A-4ECE-9D90-3CE0378DDC89}"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B29D2736-11B4-4704-894D-AF03182B96D5}"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1FF6A1AB-A2EA-48DE-9BF5-7E9DE3C660EB}"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E6FE81F1-C5A9-4674-A7B3-82F48D66580C}"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BAA61704-92B3-4B13-A40F-8C84E0A5F07E}"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6B06DB94-41E3-4563-9375-373B5FEC67B5}"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79296E9E-191B-4A4A-B9B8-27ECF3DF48A1}"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EA61C53F-54D5-4B49-BE46-A935377FFE3F}"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EBB646BD-9FA5-4C46-A7E4-E7DE659F6B47}"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F3D2F691-435F-4881-90A4-33320E5DD386}"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2A8F47A0-F820-47C3-9121-C13FDB14C3CF}"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737AB3EF-784D-46DB-B31A-470FD42F933F}"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2D655FFD-75E8-415B-B2E0-F36017035386}"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82D6B4E5-DF46-489A-98C1-959DE892F003}"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E9D41B99-B866-43A3-B622-8DB8A96427FB}"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7689E4D6-3E35-4CD2-9773-C94D5A435A84}"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BD265CAC-47FB-470F-8D99-F3D214808052}"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1173456D-691A-4FB2-A3AD-BA083AF253E9}"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C10E4CA8-1000-495A-B19C-8DE3A3E0DBD4}"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E23BCC8A-2703-45B5-98D2-8857E82E9F24}"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F1DF8B9A-46EE-48C6-968A-4B1E8DEEF09B}"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F11A1698-7159-424B-8ED7-2223C3598287}"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E1BB9B73-8861-4C60-9ABF-74084DCCE601}"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4E6E676A-8967-4A38-9EE3-E7FFB5A942CF}"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E3B20CB2-0C11-464D-9C64-C97D80E144B9}"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EEEBF175-4D28-4372-86E0-F4AFD12E29E1}"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038C02AC-69B9-4277-9C65-9549CB0C3E31}"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7515387A-CF7B-43F3-A449-E60F9D337CF0}"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7D629983-6000-45EA-BD93-D699D777D869}"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8FD4CBFD-D72A-420A-A3B5-F59307F82424}"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0A63A3C0-37F3-4DE1-B1FB-8BFB84F47D19}"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55F69A04-AEF0-4AF7-91C1-96E7578204F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C2F71A35-BE9D-46FE-8EEF-7007EA65DE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A51DDCD-D154-448A-82FF-0AF3C1CC196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B4A61876-5D12-4FB4-99B6-26942440677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28F39223-A38C-4ED6-97F4-1EB4B792DA8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0FE13979-2D51-4E83-A604-B96E5E39234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0F980E3-8980-43CA-B94D-B984336A671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CA4CA142-A5E3-4CFC-8B46-91DC093DE44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CF4EF6DE-B6E8-415E-A04C-70AC5E68C00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86480A89-7804-4231-A872-9BFE4D18D75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FBA7C361-EC6F-4C78-A385-F114EE27854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042C5EB2-04FB-442A-809E-27BB27DA811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3E13FCD8-E064-4A47-8EB2-11A0123175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1DF3D49-F35C-4E1B-8CD8-E40FE1730D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D14A568-99D0-4D27-99D1-610DEFEFAC69}"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C8A7397C-08AF-4B1E-89F7-DFB906BD68D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8A65947A-8F66-4F2F-BA1E-D8AD9BD2538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FC120535-6AD9-4103-8A65-F38859C77FB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457EFBFE-C447-41B4-AF56-D941A20A514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E9D19F1A-0AA6-4D28-9DF1-59E48883438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D4821FD-75CC-42E8-B77B-83ECC2AB0D9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1FCEE2FA-FCEE-4B0D-AED0-ACDD1400907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69DAFF85-B1E2-4098-A000-5ED078EFCB9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CDA9BAFD-3DAF-41E6-9840-1B22C3B714D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49A6FBB3-77BC-4186-94FE-CEFEB70611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D3B7031-E183-4928-A8E1-43193B88AC0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2743FE09-DF95-4142-9153-4260CCC878D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CC161690-5039-4171-95FE-2420A600928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E2352CD3-2B83-4F25-B09F-7A6B8F8EC43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0792A38A-0E1D-4FBE-962F-70EA355E29F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0C49E944-D7BC-43DD-B8F0-9414C084040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84911321-CC60-469D-AE67-12A8FC218A9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431129BD-2F91-4EE8-93A4-AAD2292E762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CD1ECAF-A205-44CA-BE21-2F8BD75706D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796159D4-6C24-4E34-B4A6-D4D36E37967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C02C1DC7-FD5E-4363-89B2-54CFC7FCB1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A7ABFF2-FF5B-4642-A39E-2193311EF2D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CBFD8999-72AB-4062-AE5E-CE1DA220B0F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0A05B851-C3EA-4A8D-8B81-3EE26089983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1D97AF9F-96C1-4160-8D23-002988F0EA1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C629FF93-4337-4C65-A1C3-9A0426BA30F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757771CD-7471-4980-801E-301279253B3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15F39D53-601C-4424-8E34-598F6E6B05B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61E52164-9187-468A-A72D-1AB6399FE5B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93448D80-5339-494C-98EA-B8DBE7D063B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7EF3E143-0993-42B9-ABF3-9B30EBC0490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8E2DB69-CFBF-4574-9520-9A7BF98E32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3DA0321-B711-4318-96DF-63EE5251F2E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4CC7F2BA-AF53-4D4B-A3BF-4F362F3EF79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CB22802C-A03D-45CD-B73B-ACCC53317F5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9180D0DE-2217-4D09-8697-351E5F2258A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653213F9-313D-4FB0-8709-3B2EA3F0B01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F58F71B6-0945-4438-89D7-B65A0A42A1F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9A330290-9B94-4816-A9BF-D0F259CDA3E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8447AD3F-8AA6-44FC-82F6-74D7FF8FEEF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7D38562-DE96-4C82-969C-2D8B788E0EE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6BFFB275-BBDF-4626-AF94-51DED5C2B0F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4E1D4F3B-3A90-4444-9194-754F81DD4F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5709703-45E2-4AFD-BCEB-0881D63369F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C77E50E1-5870-419A-A72B-D2E8164EE48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09F3D1E-9F4A-422D-8CD6-79EEACCE177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39E3A3CE-6864-47B3-893D-20BEC706BA7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30E36580-EF77-41DA-A418-1910A0E5799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7A473B5C-007E-4B76-B06A-C1908AFA1A2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6CD00CA7-6972-475B-B699-C1D42BC92F0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6AB82248-DDFD-4068-902B-1C08BEA6384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4D3F6E76-07D1-4052-8231-178E17A3BDE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8CC17F14-47E3-44C9-92EC-802F26F404F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80C874CC-C2A6-4972-A3F8-2FA0072BAD0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2447D8F-A51E-4C16-947A-597061EBCBF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FB9C894F-DC97-4418-9C98-8060AE2ED9E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5F1EBF9E-1DF6-43B5-8883-7B9FE45F2AA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C26ECC1A-83F6-431D-8A54-78C7AC9DD66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3A82308E-B088-4BF4-8727-A7767D767C7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0DC7173B-AF16-4814-8723-D81BD73EE65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AA8341E2-1C0F-4B7A-ACFE-3B4718FBE7B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878D3912-DC9F-417F-838C-586B59193CA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5C6E18B8-6406-44FD-AA95-B13A1EEFEED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617EF713-C9E0-4E57-AE79-1EB7FD4530D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9587DA82-B79A-47F4-81CB-10D1DBFEC1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B0D559-BD61-4341-86A3-952C296E9EF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09B5DD09-6892-4657-8B36-B3F430561AB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4C5DE10F-6A97-4A0D-9608-6D5FE53C13B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EDD43C72-EA31-4CE5-890D-30BCB06E129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7735E73F-0456-417F-9087-BFAD6997886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D954D29B-492F-4E02-9337-B6CFF205098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451B593-2C2F-4819-9AB4-05032E8BC2A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B744E4EC-9EC6-48D1-B865-A33F8E58085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40D95DDF-2ECD-4433-B955-CB2FB061476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3C0AAD73-A6D2-41FB-89A6-256CBF496F8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3CAAA43E-8DD7-4B7A-AC76-9BAAD841DF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8384C9-B91F-4AC6-86F3-79C4C54EA89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95C24EF1-24F7-4155-8A41-F2E3AD7B9D4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359975C8-8D90-4063-AAFF-BFD32461DE0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5F344615-0398-4F07-9FFA-DA585E63B90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C6FD8296-E034-4E21-A0E7-BB3F056CA67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99064DD6-C2A8-4233-BAE5-3452FF3D557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B768CC80-48F6-46FF-A428-A2E046B99B5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2CDBEF0D-FCA8-48E9-B5F5-2ECBE6C1067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56F6DD2-D999-4B26-9648-4FA764E5427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BEC14DC6-2F01-40C7-B2AE-C4AF4ABCB4C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D2A44B34-51F1-4749-A371-FAA0861F34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51664FC-5F32-4AF4-835C-3D8B12F997D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39F52F61-FF8B-4AB4-892E-143C65E4713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FCD7E73B-570C-4502-8CBA-D0817985584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82BAF40B-3BF7-4DA9-AD6C-50DD343CE0D3}"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AD7CA62A-9926-4AF7-BAE9-BAF5B65A18F5}"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E4FACC0A-1FC5-435A-A39C-BD268F7F3160}"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A5277A32-D528-46F7-99AC-701613B1E7C2}"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315468E3-6F58-46FF-A343-0BED0ACD0E2C}"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B7F53118-C4C1-419B-9A34-C26A7669DBB2}"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8B2D6041-B1DD-48BA-8A8D-57698B062CA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BFB09F8-547A-45AC-9E53-5A82DDC004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CAB6F4-FEC5-48A8-BBA5-579B4D3E730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2A6F4D83-E5E6-46AE-BA1E-AAB7E5B73CE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2E79378B-1810-411D-A19E-D086EA3731A0}"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E52F8148-E790-4EE0-A4F4-38C2378EA96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E58C59CA-C3C2-413A-8F77-ED12484CEC29}"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D4E79EE5-3A2A-4350-B473-A7E17CDA45A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674C0B2F-F9F1-47E1-82C2-4CE8F46C519C}"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722963B8-31D0-47E4-8F55-6B9DB232ADE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766E22FC-D54D-444E-951E-528AD272137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97325421-85DB-4E7B-B8E8-B7FDC4034936}"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9D5F95CF-E644-4568-B076-1A3FF5FAF7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0B62812-12AE-48DD-ACCD-9F23B54BCF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3D1CFA4-E353-46AB-8E22-AF698C4E160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9E981247-0EBD-4FC5-B7D0-9148C468397B}"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91A3435B-5B9B-492C-BEE9-91C6B7C9926A}"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81F4616C-0374-45D1-89FC-ECB4F832734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7F5930BD-3A90-49EC-B40B-B5586C0D4BF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7B6082F8-5D34-4507-BC6A-2C89571F026A}"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46D0EEC8-0D9C-4C64-BD32-415AF6680DA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B621ACA3-11DD-4164-BE52-B38652435F4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9820A740-49F4-4903-A2C5-0544507115E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3C44C94-83BD-4B9F-986B-5F47E4513CFD}"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62D8976-2E72-4BF7-B05E-78C33B5284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1D7F8F9-C99B-46D3-AE6E-4D1D4336C44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14A397C6-C175-4806-A028-5528BE6C3B80}"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885C6076-0F88-4150-B6AC-3E59BA18FF99}"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D07AAA9E-B5B0-412F-84DC-FAE5C07F8F87}"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7285D446-B97B-49E8-B6FF-3A618E9A711F}"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438C71F6-3B8B-4FD5-9A8A-410D20F576CC}"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15B208CA-1740-4A48-ABFD-6DBDE9BE3C68}"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DA1F4058-5AC5-4984-B759-C0EBF9DF7415}"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365EA6F6-F60A-47BD-9CEF-5C6345D30FC5}"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1DAE9003-BDC0-4CD4-A843-3F0D52BA81E2}"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E5654A8D-91B1-4A92-A885-B7C28A3C5B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0308536-6EEE-4AE1-AA25-C8C36506038F}"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AED51CC3-DB83-49B2-B941-9F5FAB2665A1}"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4740B352-B922-45A7-A08C-EC2883F73450}"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65D294B3-FAB8-4863-93A9-A08A2D60C78E}"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209E994A-4486-4F77-B608-D762F74AF7AB}"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B65463B2-41D2-4763-8481-97F234FF4117}"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BB5359DA-043D-4FA9-B589-973C6D38A13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11980D42-603B-4259-8857-0EA380EAC32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2251A73A-E25B-4A80-BC24-A53CFC1DB25F}"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6A70E6B6-3DD1-40BE-B586-A6373BE6B3E7}"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7B6B9567-61B6-4DCF-965B-4460C1AA62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A04776A-0532-4E82-A913-C129FF2A3602}"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1FEFFC52-5884-48DC-A794-F244B1B608A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6E2DAE87-5FA7-47BD-ABF1-4856ECB338F2}"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C9B02AE2-712F-4D58-BE05-93A2F9BB0C22}"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182595D2-1286-4CF0-9BA9-9F1AA3824C06}"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264441D5-530A-45BE-B600-2F947B883BA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21004806-FD47-4348-94AD-EA4A6E2DB9C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CA80FACF-6173-4B5D-BA9D-85D9C4FB68D3}"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84B94106-CD77-488C-AEB3-6296CF2F91D3}"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79ABCC6F-80B2-48A5-BC1C-CF0AEF9BBBC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4E1A7E3C-003F-47D0-8132-94F59E5837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71DD8F8-45F1-4E68-89CA-179D50C17D1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517F7612-15CA-4657-9E55-20A875B42589}"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3646D0B8-5B2D-40C8-AA48-23964E0892A3}"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492D2944-71C9-4B15-A9E3-98C58485CC19}"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5390A397-F935-4480-980B-263DF0F1B7A5}"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BEB0F072-EE79-4668-88D9-9BE537649AB4}"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2619BB68-94EC-4800-AA49-505BDABB2DF2}"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63561B00-D396-48BF-B332-17A90307BF46}"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3BDB79F3-78E2-4817-AE39-D5D61F9B63C3}"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28C63541-C1FA-49AA-8AE1-C464338B63C5}"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663669E0-0C59-4EAA-828D-ADA9C7966A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E1B5194A-FDD6-42AC-A8EA-BD67A79EB366}"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27EF7FDD-E332-446D-8F4B-EB70B4BDA329}"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DCC93D02-8D11-424F-811D-408C03102BBF}"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CA86960C-8F3F-4967-A23B-8F497F2F9B9F}"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28CEDA56-B53C-48CF-8D85-AC2BA44C887A}"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7B0C6236-6F70-41A3-93DB-52711DDCFBFD}"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C55B407D-EF86-4D60-93AC-885CB326EE19}"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E8B6578A-380F-4FEB-B828-74EC5716103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39DD3657-7B1A-412E-967E-B7DFDAD4DF9D}"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3AC31C12-C995-4F41-B04B-A63C4AA7DBD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F20A7E47-334D-488E-B2E7-D003A32E2B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1F3314AD-E7FE-42C6-BF95-A962B1FAC7E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AD1D4531-F5E0-49A2-8525-FC9BE583ADC9}"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E1CE595-8211-4FC6-9F32-1BD41CF79037}"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72DE0B6C-B190-4777-A50C-974B81C319D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3DC97A3B-F948-4C18-9D18-2500D976EFF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A24D50F6-B225-43E5-BEE2-BFAFDFA1452D}"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C925D11A-F87F-4465-94F2-C991EC270D7D}"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3F8B50FC-169B-4CF5-AEFB-894245FBBB06}"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48CEF418-E50A-4D69-AB0A-BECE637DFDC3}"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87992AB0-AD1E-4D50-BAB9-0332C2587629}"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36C7DA7B-DBAA-4450-857D-2F2AC05C8C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4E7118-6807-44D5-9237-DE932448176A}"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55684026-32DD-4F25-ADAF-36416C31F21E}"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B47CDFFD-F716-4D76-8FDB-AEF2D1DCC0F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E70BB899-B3A8-44BC-AB60-48574CC42C8B}"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17F1056B-1522-49B4-8EE6-CFDD04214028}"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7AAE528E-7462-4B10-9313-2408F80B479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1553257C-A4F7-47D2-8DBF-948EC2640284}"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FF48D628-6E8D-46D3-B884-97A2CCA7B066}"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FA79F58A-3DE1-4FF9-9D01-4806F510720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3AF3544D-CDB2-4571-9795-01C8F1BBD72A}"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CDC26BD7-F184-4A21-8C52-4893FFA43B4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BC6EA7E-99ED-4E52-8B46-97CC95FC91FC}"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84303A7A-EA38-4A15-8890-F4CEED03BAA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1DA076EC-74C7-4D64-891E-820C167F5C26}"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78BD185C-D0E7-46F4-9F31-ACDA8DA739C0}"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FC4832AD-F803-4A7A-9CA3-C28224AF9B0C}"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79A79C96-5443-45AA-B86A-769394A7A17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671218BF-B0E6-46B8-9502-0E156ACCD828}"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47AA8385-4FD1-4FE9-B3CA-28391DD8C0EA}"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A63086B4-2306-4970-A52E-7383369F383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DFE374D6-D9CD-45D6-81D2-AE0706CAA366}"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0C41E8C0-AAA3-438B-BDE2-AC9FE365A5C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91DEBB6-627C-417F-95A1-DCD0798EF443}"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6C7601E1-D18D-443D-8DFA-218F6F1F9270}"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CBDEDD88-E0AC-46EA-A36E-01709D3F63F6}"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C0C96261-7AC5-47EE-B641-7A4D05904F5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D6D3742D-FEE1-494F-9FE0-827259B980B2}"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04EF2BBA-7AD2-49E4-B6C9-0DBDF355DC54}"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2CEED094-CC10-4441-B301-F8714FD6F0AD}"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F28A5C26-14A9-4B0D-A00B-35CD27F8D6C4}"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070B9AA1-6589-42EC-BF08-E27C308AB44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6469949A-BA0E-4F5E-A433-AACF52BE6F3E}"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C6C73A72-BEE7-4407-8B05-CB27D691C9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F08E285-A215-41DD-BB54-7254171F55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3BBADD8-27DC-47A2-814F-990BDD2A2AF3}"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FB58E7F5-AE44-4599-ADE9-350172FE8E94}"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D41C0CA9-3D2A-4C27-A559-23D6CCD4A9F5}"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537EFE12-D2C9-4195-B403-7C9B5960BA66}"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21316971-CDA3-488E-83B8-EC9B3EB31E9C}"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846491B0-C899-4A26-AEF4-5390F3F1E4CC}"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695096A8-E528-48E0-BDB4-FDF8B7DAFF47}"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118EC777-3859-4FA0-91B3-FFB94187CAD6}"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C1A75EB1-5178-445C-937B-3D0D9F2825F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EAE50831-29E9-4E1C-AD40-B2B4A58BB4A1}"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9661300C-832E-4989-83CE-32F5DACABA7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AA2C581D-6974-497C-8681-B2697D11CDED}"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5BBE8BB7-D2A6-4F4A-826E-7C92DF9A869D}"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506AFAC2-0A75-4052-AC66-469B4E7DEB14}"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ECE2EE11-9B5E-4C73-8ED7-93817346B70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A7E30AA6-B839-4D7F-AECD-17DFA674DE3B}"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87D2E272-5632-4D2D-8AEC-2278A45508F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C792CC5E-7089-422C-B258-C90272507E42}"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4B3FCB9F-2605-49AA-9A19-4282E2E240CC}"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EBAC1E7B-8AB7-45AF-ACFD-90E66CB9FEB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9BE05C08-41E2-4193-BF63-90DFAC356D19}"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3E3AB2CF-CED0-436E-B035-38EAB6A571C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FF466457-71D0-403F-B51F-0634D01A0DE4}"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6AC1535B-C5D5-4C06-96FB-61F956D4E3C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13CA12B4-C2EC-4DDB-B462-AD69451DB6A1}"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88079F9F-E870-44BE-A2F6-85BF76946019}"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E011F7DE-6A3E-41DC-B105-562B84C69BE6}"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EE37A3AA-2D11-4F06-B116-91490081A61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25FF110B-69D6-4586-A295-5DAD308893FF}"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EB3F62AF-7D31-4D1C-812D-49661814AEB9}"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4445F3AB-2ABA-4EE3-8D85-05E25FF138BA}"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D3D9AB1E-5FE6-4AF2-B756-59EF4ACB5E3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CA38475C-AFA6-47D7-BB5F-2E5D7E191A1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2FA24A2-04A0-4FF6-A4E8-B532C5208016}"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13467601-8C41-4A41-A639-4E3C7BD801A1}"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5918694D-182A-4657-9471-2BF17483F78F}"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9837399F-397F-4591-9BBF-438D61A2E278}"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E752E8FF-5F19-4A52-A9FB-DCE949AAFB6E}"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89393042-9E99-49B1-B3EC-10D38F1D826B}"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B724830-AA25-456C-BD00-5AB75A0DF338}"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A78EBDE-EF3E-4E79-B33B-AD2CA611C37B}"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76F8E4D3-205E-4DC0-ADF9-6CA8BFDB55DA}"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85F2C471-92C3-447B-850C-8F2DB4911BA6}"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FA01F86-30FF-4420-989F-FC2B6C63EAA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53F3E87-C962-4BFF-8F1A-FBC8C3F7354B}"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EF2B2EF-52EE-4ECA-A0D4-C2E74348EADE}"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95DC3854-5BB7-479C-809A-AAE6A0FB42A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8E6D13A-C940-49C8-B787-D08D57BD7E76}"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F11E0996-B69D-4775-B745-1EE60DBB1E7A}"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911D2FFD-266B-43EF-85C7-ADA8536D31A9}"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7336D3D4-4468-4263-8234-1BF21E140680}"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7E8FD36E-B92D-447A-8E12-DC09AF9F7423}"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1970BB9B-6C6F-41E3-8784-2D29F594C244}"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2F841715-2167-4513-9729-7824A89C63F3}"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D7ABA8CC-1F52-4707-A314-F8DB1EDA395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608066E-26ED-48F9-9709-0897DB8BBDB4}"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6DEBC7D6-8146-4C20-9C3B-D9FF9B8A13C4}"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4A8DC2FF-2F72-4A89-9B77-26BED2228AB6}"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FEBD1913-2BD2-4BC4-81FA-4DEE318C9B52}"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B66A7FD1-A8C0-4064-A602-80960FF70DDF}"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504146CC-A649-4E43-ABA2-C7E5E6D64FEC}"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8DFD5F4A-97BC-4B5F-BF1E-E220A3924F4E}"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8693CA6C-C9D7-48F8-9446-600943211B90}"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E9645FBA-83D1-4912-BDC0-FFB35407D027}"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07905F24-7AC7-4958-95A4-D8E0E067D003}"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BB2FFE64-F410-4096-B1A9-58E177E1EFB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73EFFAA-EE27-4E05-B412-382FC49EEF04}"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83A26CA6-ACFE-4A7C-A5F1-CF5E8033C13B}"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5D0D07F3-334D-4284-B6DB-41BFCE983585}"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AD32EFD5-F2D7-4599-938C-A3B294FE5FE8}"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8666AE17-8FB4-4AAC-A030-BF9AAE2EBF94}"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DDE6FCD8-104C-4A6C-BAB1-611D31FDDB63}"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3CBC7D0B-1D82-4804-A34B-507E78F429BB}"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BE5F6AA5-D3AF-494C-A511-E66D387D727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C07263B6-7B69-4F49-A5DD-5F7BC6E1EBFF}"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0F161DE1-4607-4255-BF9A-61751476EEB0}"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2F66C7F7-5BEC-4A68-BCC2-77FC99553DA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983C209-C609-4239-B9DB-BA4B0419BE4C}"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E71CAE05-AAC5-4E60-B676-165898F8BCF4}"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B4AB53CB-8CF3-408E-990E-866AD9908AC8}"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F21CD7DD-58B0-489B-9E70-0D2F3339CF3A}"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A84B8172-B713-4640-B618-6B7C0BB2399E}"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4046B437-A456-418A-A251-AD1E5EDE6F34}"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9672E70-B4AB-499B-BBAE-C3965E0F201E}"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1EDAF28D-7DEA-4BBC-B0D5-BCF268845DE8}"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8BC1C48D-C179-4207-8E68-626C540F1A04}"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757CEEEB-DD3C-4C49-B729-4AABA0484044}"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124180CD-8B72-4CFD-85C9-047A177F1DA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B9A8B9F7-6F65-4D36-B779-96B36817BAD2}"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D6FD796C-C7D0-48AF-9AD4-8E99D8EB23B0}"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6CA2C3B2-C30C-4A9F-A7B0-A453331FB680}"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4F5F33C9-5279-45D1-AC5D-35436541D45E}"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BF649A45-90D5-4EBA-B0AB-599AAB037FF2}"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DBCDD122-CB0F-49F2-8FDD-EE48ADB9884B}"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3E2E3595-6FD4-4401-B9CA-CB2182C91608}"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82699C41-30F4-4CBC-9A5A-30A4D9CDF6C4}"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4369B061-439F-4F28-A171-C6A1B2965761}"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3DB35505-9B45-491C-9939-2B27712667F5}"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3F515A1F-EBA0-4C08-ABC5-E5BAC821BF7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6B73287-8A81-4CF4-9CEF-BEE4A9CB8AEF}"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3D10B8CD-418B-491D-8DE1-7E18CF9979B5}"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AAC92640-A345-4A14-971F-32405E89F39D}"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5E166C56-7DF8-455E-90A6-A1F1C1A2B8C5}"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3108ADF3-E33F-440B-908D-2CC14A62A1A1}"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3F0C55C9-2326-40EB-8080-FA8F9BE07CC3}"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2485A628-13C3-4095-B724-3C42187C1D21}"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13A83F5F-7D74-4054-AB89-6E431DC95567}"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C24F2FBB-EE0E-43D9-87B4-D6D8AAD853FE}"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E44B8BDB-E3B4-43E3-94DD-1D494E4920D3}"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95D2EA0-171C-4EEF-A67F-41A155C7EB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1400D7D-1009-4DB4-9958-6CD5D105F3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4056175-B5E6-403F-80F9-C8AD2B15DED4}"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3F763D5-C9B6-48DD-9EBA-FE74C800A8FB}"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EBB9F11-26C0-4E7C-BDE6-74F4E431AB8C}"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D9144019-DB87-4FC2-99A6-6C49A6479761}"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2EFE9764-B4CF-45E0-ADCB-16E2EB53B7B2}"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441F9551-C35A-484F-957F-A3A40D7B030C}"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FB8CC0E6-F39F-438E-AC78-C94DFC2D5509}"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20D05A11-808D-4E2C-9058-A0A8D863DE75}"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A078BEAA-DB45-4EBC-BC53-2287EA7405D5}"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5135F15A-AEEC-4E00-A977-81FA4761ADB9}"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CAC85AD4-49CE-40DC-A9D4-85EE8B21E4D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975E5D0-8138-4C40-83F1-514ED447FE72}"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2655EE2A-D798-4F64-A9E2-78B5239E7103}"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E920F125-7429-4918-8C10-4A8EC6B612B1}"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F994159E-20A4-4DFB-9C46-305C0C64FD18}"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D51C6BF2-44CF-4ABB-8156-B3DBCC8286AE}"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1D7D2A69-973C-41DB-A9F6-737BF153DDA6}"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6D057AB1-2A0A-424D-B075-D7D6D6C203C2}"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33413F45-34AB-4DCF-849B-C26892849939}"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B255F7BD-A70D-43B8-A5D8-0258F3C5DDF6}"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F32CB9ED-FBA7-455D-9B49-D9A4E79C8CF5}"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A9F14B87-6293-43B0-A247-EF4C94FBA6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873336C-F9F2-4287-81E7-0DE60581036D}"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7BE94575-DADF-44A9-9FE7-2886DAB6B071}"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2E83819D-9017-43D2-8A61-E5C7D3AE1545}"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6B2D8205-7676-4522-A763-DACBAEB9F51A}"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DF3ABE69-64A5-497A-83C2-305E60E4E05D}"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CF9304F5-50A5-4B15-81C0-6F29AD42ECFF}"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E972C532-47ED-4083-B81D-326F0D01AB7C}"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ADBD7188-481C-4B38-84EF-DFBDF644CCFA}"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E9F9D086-E405-44DD-9538-C6C347F2FAF4}"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40FCCCFF-E662-415E-AF61-CEB2419F206B}"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8DCD831C-BD89-4B99-8568-D5D8039591E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F4A34E86-0877-4828-A666-AE87C1C7ED7C}"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251030A8-5D7E-4CAA-80C8-0C3BB3963387}"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16104241-47DE-4A08-B8D8-4B6422E23F8E}"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FAE364D2-26E8-4894-9F00-87C80F34FD15}"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B7C5D1DA-C064-4758-AE1B-DF19033A293E}"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D4F4BB2E-9D93-4963-9901-59B3D8F170BE}"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CB07BC96-86FD-4C82-B382-A601CED87825}"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BECBFAB7-B15C-4790-83A3-AC52A8491919}"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A554DA05-819E-491D-BD53-4A69C7E5917E}"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F8E215FF-641F-459B-A006-5E28056577CF}"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CEE7163D-5AB5-4C69-9933-4B4AFDBB079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B65FE423-374D-472E-BD85-4CFC1D909BBD}"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8A7F0306-4077-4C2F-8D2F-2BA17B05C9C1}"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06EC5628-B503-4A55-B72E-7AC3E0B08359}"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E9CEBBE1-76FE-461F-89D1-FAFEEC8EFCF9}"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E3B9F6C1-0424-49E3-A236-2C8D81579766}"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EF7BDDFC-9CE6-44A1-A956-9905A72EB510}"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1ED8BE5A-3DF0-40CC-8F91-6C6A53DD0B3B}"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6ECB9BEB-61D4-47C4-8050-9B262F906AE0}"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F4F1B998-5EB9-419A-9D45-75128AD8D7A9}"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2ACAC135-3B37-4C38-93C0-D82C89CA3206}"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5C026CB-48BE-4E1A-8A2B-B4AF4E7B7C1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9EBABD1-4435-45CB-9D0B-F2A33CD3816D}"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6BFDB7D6-6B22-4FFD-85CE-ABE114F6F7B8}"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F6920AFE-4C63-4AAA-8C41-99364A52E5DA}"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89769E88-7A11-4E0E-A2C7-8A20EF9721F9}"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723DD9FA-D60C-4916-AEE5-49FD808A3A9A}"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42C3CF57-3841-4D8A-84DF-37507823161A}"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8B305AEC-7E23-4C4E-8CEC-223474BBCBD5}"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EDB25AB2-AC96-4201-8359-640C2734EC0A}"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04F9596A-48A7-4D51-9D1A-09CECA1848F2}"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93944750-D165-4EE3-9B79-A5E777BF591F}"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A3335B78-0379-4C3F-BF19-0AB3FAD19FA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1315BD6-80E4-42C9-89D0-0A4622D9CC47}"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1FA2F97E-58C2-4A3D-92A2-C74154A7921D}"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E83F136E-FA74-4815-9586-409598A04094}"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B6147A12-A3C9-4E63-BDF2-3EBB4A6DBFBD}"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24DE7E0E-2BE1-43FD-8A72-F2DF4DDFC651}"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4A65D8B5-F833-40F3-8540-123910F047D2}"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356CBC01-FE09-4A53-8C9A-93332407326F}"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ECD15AFD-FEB5-4FF2-80EB-7F38D4D463DC}"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90DB3A15-7E5C-45E1-B51B-696D4BED7C55}"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EF3F1693-8A44-4D5E-930B-7F2F1ED4DE79}"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59087C4E-B6DE-46D2-A97D-9250108A876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18A63FC-E4BE-4F2D-8827-F1EBF6AA9E4C}"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5C28E97E-4528-4B47-A915-91C239BFB25A}"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6B9FEA48-971D-4719-8C32-CD84541C5CD1}"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58A1F4D9-DFFC-4BFB-A0A8-4AC2865CF319}"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3C69BC2-B71A-4DDA-8E7F-83A4FE420B24}"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8547BD9A-67A7-4C1F-A9D6-247574C8D885}"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190D447F-66F0-433D-AFEF-20388E33CB0C}"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DC0832F7-5FD8-4D0E-835F-2F7CEE45F89E}"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2FB6EBAC-9D4F-4F38-8693-EFA020F1C3A4}"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5AE426C7-7042-4F10-8B46-49D221925FDC}"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FA23C2BF-E46B-4987-ADD1-FE1B311BDAB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AFBDEC6-A57A-4BDE-8410-5F982891B313}"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EE84CC8F-8FE5-4FB0-B34E-51CCDCEE197C}"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ED9636BD-206E-4E44-95C0-4007003BC82F}"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FF7A57B4-E2BD-4934-8472-08E66A9887DD}"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15338A9C-C861-4CE3-AFD5-D868152D663F}"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3DC9D6BE-EA68-4192-8376-474412EE409D}"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E7B0648E-2CE5-4358-BE20-80F8FCCC0B06}"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491D2BA7-974F-4FA9-9C74-A3D6319F2D0F}"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51A412C0-925D-48E1-A6D5-EF47D2BF3606}"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8DAC7567-DD7C-4BBA-BFFC-EA563DEE7E5F}"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92D36BB2-726E-40EF-93A9-438AD84CB22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89DD2042-0EEA-48DC-8F68-F86EE7CB5BD7}"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605EE9C2-B162-4B5A-985B-127A0F71C5ED}"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628BA12F-B26B-4446-B119-C5460ECE2120}"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D8EE667E-3724-4D0A-AFB9-4B1EC44618D7}"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45B51E5C-6987-4E8F-952B-E4C41DC66207}"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A7C28067-57B3-45B2-A9B6-5354DD58C75C}"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27F15077-E59C-42E8-8070-07C23455A8D3}"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8017E12C-3A73-4BAC-A672-52FE18003DA3}"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FE45EF5E-5699-4C16-8661-73B288A6F280}"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B51A81A5-ECBB-48A1-84EA-E4BB4645CF42}"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9636364A-49B6-4196-A1D8-C62E5F3DE3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F6EDECA-1374-4F4D-9E88-2F0835EABB7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6F3E44FC-2939-4DA4-B8A9-195F8D140788}"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39E2D60C-360B-47C4-BEFD-26C629CAED14}"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2F39A6C5-732D-425E-81D7-E5A7EAD94964}"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876DBAB0-DF89-47A8-9A85-377B46AED2FC}"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F73F5FAF-AE5A-47F0-9558-EEBDE9CA123D}"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2ECBFB6A-DEE5-4229-9280-147320E5AD60}"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E7B1FF85-6F29-4A1E-90D6-9B339F0CBD72}"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C49117C6-42BC-4DD2-A2EB-DC4B05C3F097}"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1952397C-F1AF-4BDE-B138-73FD9CC33073}"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33CA0212-BDEB-42AC-85D0-D198338EB834}"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037F0F00-4AEA-49F2-9BE0-D84106072FE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002267-7803-4CFE-B746-3A191BC9DDCE}"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92EDDE3B-80DC-4559-9A23-D11F4E789FE1}"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47B6BF23-1127-43B1-944A-0C8CE7103C03}"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E8BBEDB8-4F95-4848-9BCD-DBDBBC945C7A}"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2B9B6BF3-77C9-4D72-AC5C-B68126B79056}"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451F95C6-C3C8-4366-923E-7EEFD64799C4}"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9BE3B7FA-1B0D-4394-8694-A44FD378560F}"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D21BCA74-63A3-4681-9F10-2FC836CF7B4D}"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5E8D5FAF-D83B-4B34-BEAE-341088652036}"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30854961-7E48-4A98-8F1F-79F2B7FA5B34}"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042CE524-9436-4934-99D8-CBC8B8010C0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2C878F3-01F2-427A-A335-0C5588D92AF6}"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5683393A-10BC-42C9-9865-914830A393DC}"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EFCF1276-B04C-4867-B29A-C04048B2F8DE}"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1DD953D9-A1D9-4ADD-A8D1-B1DFF8242F55}"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734B7514-47B0-4300-9629-5880FDE7217D}"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53F400A3-E35D-4E20-8B6D-0519777197F4}"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437F71BF-40C5-4F7B-AB40-67FFDD9F6E15}"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7A33B97D-8ECD-4D3E-89CC-D460DD0AD6D9}"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C5514548-CF1B-491D-9EF4-ED5FBC7C740C}"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3A0B1B1E-BA25-47C1-9C9E-30859D6B4B00}"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0BF002D6-EAAF-4CE4-8375-4BF5BB8C57C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D23876F-383F-4AB2-909C-C40664DE9839}"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8BDA0931-6CFE-435F-A8FE-EE6C8D25ED1D}"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ED83BC56-5F1D-4A45-BD3C-5BC3116BDA9A}"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9DAD5140-8198-4B4A-9430-072522C04103}"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05E3F7C1-F9FA-46E1-922E-0F9D178DA805}"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7D1410C4-0DA6-4B6B-83A1-E7908F5C2007}"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58C2EDB3-1C16-42FF-8442-CB19065283E5}"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8B891776-90C8-455D-B02B-99A2C4C4D65C}"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333E3ED0-59CB-4FC9-876D-0B1E06CFEFA4}"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AAC60BDF-8E5E-4BDA-93AC-1335A99F4B1D}"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E79C595E-03EE-4816-A9E8-3FA5D43FCB2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A473AB2-8B68-4D43-B42B-77E6F59FF7AA}"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3180E37F-22A8-45D3-914D-1AD2C1927380}"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4540C7A7-CB11-4A81-B7CA-BA642BF0C8DA}"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33A07CDF-6989-4378-A157-B46217A98670}"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8DE96F98-B54A-4087-BFC0-509F945D5574}"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46757ECF-EAB7-4438-8109-A83819B08B1F}"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33854963-92A9-451A-A872-CAAB2ABD1E06}"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59278CF7-BAE8-433F-9977-AFA03E1453E3}"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DAC4D465-02F1-45AB-9894-86AB19789D45}"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C6E4D4D3-1E28-482B-9F83-1EDDF1904905}"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42F6341C-3453-481A-9D5A-50E77C1168F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E2D8A4CE-EE8E-427F-8212-B4DD7AC9B399}"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8A0E2A51-DF78-4249-99DA-EF5F34E8E207}"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47444A57-5C46-4895-B71C-DEE81E598F74}"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76C0858C-F482-4660-B991-F754D5D8C528}"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B5B2BBE7-E9A0-46A5-99BA-DE424186BC45}"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7B726EBD-786B-4CF1-98B5-9437ECDD1BC9}"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65FBCF1C-5945-4D18-A29B-D1D2A55F1D30}"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1DA1C701-FEAF-4F48-9F34-E0E5D2EA9C21}"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72374F7B-A5DD-4C9C-8809-75ABDF91B44A}"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E45891E8-7A21-4C7F-8565-A281275A9227}"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E70D2631-476E-4C2E-AAD3-259F58FFC20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96B4EDB4-10AF-4F42-9AEB-9EAB00A26893}"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44183A51-4564-4135-8404-D2E4837736DB}"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C5A4CF26-1755-40EA-84AC-174ABD8ED0AC}"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2852DD0B-BD58-47AC-A1C6-BC1F3F3D105E}"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FB0AA3B3-44F9-4702-8CBC-45D6C1EC9007}"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9465D251-E5F9-4D29-8CC6-2794095D73D6}"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81060F48-77D8-43E0-9AAD-313B05797D87}"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77FCEB5E-B68F-45AA-B17B-1931D9FDED54}"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23088626-2E85-4993-BFA9-862AD5122BB3}"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0D464F1D-30BC-49CF-A17F-0A50C556BECB}"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9125A516-552B-4BA5-89BB-5E5F7ADD557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EF983A3-59A9-4AB3-81EF-4CEDA9F7E4C0}"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2292B0C8-8B13-47B6-8541-383BFB516D94}"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F786A989-0EE9-442E-851B-9778CDB4107F}"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58C8C749-1B57-40A7-8CF4-2EA7BDE24BDF}"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C2F39A93-8C67-4482-A325-1855CC974606}"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8924D9A8-A801-46AE-9837-A3BB602723C8}"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7879FA81-5E3C-4A04-9C59-CC8F338862FB}"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BC861FF0-90EA-4213-9548-533513960380}"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8880DFE9-E53D-42E9-8B65-99AC9C644DAC}"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3338D492-CE82-4DB5-8876-E3BE8E38F81C}"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9D9F9FED-A8C6-4EBC-B7A6-12C7F20492B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D3ABA61-B2C2-42C4-ADB2-8B56373CE3A9}"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A118E5A3-6C5A-4799-BC91-6D31932C39D9}"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4321D770-64FE-416F-8115-71353C879481}"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5B233FCE-0245-4D61-8282-9759B656A5E5}"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8E6FA6B0-1318-4F67-B966-2732B4A04A06}"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1AA96BAD-1988-48B6-A050-495AE8C5B1E8}"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D93E2020-B28A-4ABB-9F12-D4FDC2E85262}"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D71DB5F6-9860-43D6-BA7E-8D13050D9231}"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24422FFA-ED55-487E-82BD-1DE6559E0F04}"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6EEAC0D1-05F8-4BC4-83E7-65E585EEFBCE}"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F108590E-FB5F-4C62-A5FC-C51D6D29B2A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8ADAFFB-FA1B-4E2B-B901-00056F1497E1}"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49585C9D-52B9-4E25-86B0-92085D99A402}"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01BACB82-1133-42E1-A2F7-ECBEAB2E0B9B}"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CBDA566A-FCD0-4E5A-B2A4-CD9ABB6E80D3}"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5D41FB8F-B2E6-41B6-AC84-841A90176CAC}"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69EEC673-C4F1-40DB-BC72-5E79DC92F0DA}"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6230B9F8-122E-41EE-BB76-F06C3F11DA19}"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BFD508EF-930E-4EF8-8C0F-943803537456}"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94A7EAE1-23D1-4F95-BCE5-871F0138EAC3}"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86BAEE85-9C66-477D-B1C3-3A580EFD54AA}"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08059F07-9348-49E7-8471-FDBD37E0A5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3C3E48D-459F-434E-AD57-8702D5EEB22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F7BDF43-C799-4564-B038-26A1E7542B6B}"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146D2C28-0407-4E48-BEFD-A2312C20F4B1}"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E212CAF1-8D17-4CBE-ACB6-C75CF31A1290}"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8A0A823F-58C6-4AF8-A827-B4F5EE46F32C}"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4C287889-49D1-4218-92D3-70934CAEB7E9}"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AAB56310-7E3B-4542-BFF0-99CE44198614}"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9C3099CA-EA88-4281-B3D8-0329E5537908}"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05B98194-D1FC-4A28-B8AB-2DEEA2F0CE5B}"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70020D20-7ACB-42D6-AD98-93D0311250CB}"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5BCE5129-660F-44A3-9E34-0E7CDCADE891}"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E98A402B-7C5D-4276-97F4-099B23D7EFE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2A12071-8795-40B7-81B0-E5D28CDCFA20}"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8428C758-A379-4663-BA49-0501E589B5F2}"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BEF02790-A587-4236-AE40-2F9CE389CCCB}"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7A2E861A-641E-4E89-8F34-62B4A13656DC}"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F0FB28B5-3DC9-4A88-8769-FE98BB9F4BBA}"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A9C644BB-A2C8-4110-AF6F-447F20FB6CA1}"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8B4BFAF6-3681-4C06-91A6-F314FE1C5E76}"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6E38DCFB-7D82-4806-B071-81C807E8784A}"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C614423B-AB98-4027-BCD5-3015791A4DC3}"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E4C3368D-C036-4509-BEA6-586925ADAE2D}"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2A055637-4BAB-4374-89B0-80AF0E1A5F4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744F3954-E84B-4B1C-8F5E-1859856EF2C1}"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76A1E3A5-1EAF-4B59-AE08-46B7A6716089}"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E0C86907-F3C5-4441-A862-51DE6D33A2AF}"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1370EA78-46BC-43CF-97FD-DED85A5CB1BF}"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66616ABC-CBEB-4C2E-8719-FFF21F75AC3D}"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B80A7E32-DC5E-4015-BA90-E83D9AA3BDED}"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3DE556C6-FEF3-47C8-B1BF-2206E6FAAE6E}"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20C82DE5-E404-4C11-8F76-94ECC2E5D16B}"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E6FCA268-3407-4478-A81D-BBFDBDDC831D}"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3DE5856F-0717-4C9D-83CE-39866DD4F24E}"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77EB9803-8CDD-4274-935E-F396706C5FA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5490512-27DE-4E8A-896F-14AC1D50958C}"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6242D0C5-A7CC-4A1C-A8DA-197589733C24}"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C79BD7D8-026B-45FB-86AF-31ECD4B8BEB6}"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45446DB6-74F5-4F36-AEEC-A2B74E171C3F}"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71ABBB43-0CB7-4888-8D29-003DAC87EAE4}"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55B32C7F-E30A-4B22-B4B0-C8AB6923E1A6}"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E08DD864-D0C6-4E24-B003-281A7B7C22D9}"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C3DAB730-BE53-4A93-8E5E-9435685FB892}"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6051A795-064E-4959-8F2C-B61FE4F36969}"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C1010BD0-A901-4034-8887-6955FF588BDF}"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A64B4BE0-9334-48FC-BEA5-6D085624E87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C43BD31-3B32-447F-BCFA-393C193E6ADB}"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FAAEDFC9-2197-4DCB-A2CC-54FBFF2E9ADF}"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7517E6E9-8D91-4B6D-A409-D4F56984A5AE}"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51292DEB-9FE2-4004-9093-A793551005D7}"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976F852C-FA3C-44A4-A61C-16C9201789BF}"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604D9D9C-5397-4A93-BB93-A2B314A99D37}"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7E6FBE72-7B8F-4A12-81DA-C78AC3050EEA}"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3325A9B8-C743-4656-82CB-DC7DC3828FBC}"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4B17E092-4CE0-469B-964A-70D1BF76F48C}"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10876A2F-D515-4BC4-AEDF-CC574EDE765E}"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989E55F1-62EB-4B5A-9531-D08FFF8F25A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5FC56D5B-C25B-4F4E-893F-449856308E34}"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3FB41410-609B-48FF-9328-73FE3EBB95D3}"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CF8F931E-DFE2-4E4A-BC03-453DB5E25F1C}"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A9B08BA8-EA5C-4331-950B-BD1643ABEB1C}"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2EE86C5B-617F-4DBA-975E-727512C29982}"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A10BAB7B-52AA-483B-B756-8B33D1152D77}"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7BA2531F-CCA8-435A-9DA5-EF4DD255C688}"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E913AE1C-DBD2-4473-B553-1B3DE998B5AA}"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E00B67CC-7B1E-4137-BE06-C66B0E1BD5FD}"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A12EAE1B-1321-4535-B701-EFEE839F4C41}"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1D375472-874A-4908-AED6-F63E524BB69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0F43914-5626-4EE5-AD63-495AEA4B3A3B}"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DA65E9FD-441A-446E-8603-F61AED44AC46}"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B7664F12-D438-458B-8120-339ECDC8F3CC}"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A13A13D8-AD46-4834-95E5-BC2F5FCB577B}"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7548FFB6-4938-4F92-8CC7-8FF8D6D8ED84}"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1B788B33-23C7-4B38-BEBA-6B11A464F83C}"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6A59E3C7-ACEB-411B-BCBF-576FA17AB613}"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4A75E175-55D5-4615-8335-68B6FD6A0E2F}"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25FB01E0-EAB3-44D3-8A86-7295DB64C380}"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FD3DF5C2-105D-4741-A285-D27C63D4A05C}"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695CD84E-B2E1-46BB-B097-9F81E4F5873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6BA3F396-1C3A-4965-8250-CD3436FF4761}"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165D1029-9A23-46EF-B823-FD2CE9FDCCE5}"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0B162615-4A98-459F-A925-7437627F2E8E}"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31D0FE75-20A9-4C55-8AF5-89E4407C422C}"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8F5881A1-5DED-4E87-9D6F-3690446FDB17}"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1121A7A1-1BD6-41E3-9AFD-5030F446A285}"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D5BD47CA-6811-4AF1-ACCB-3AEAB71D7A42}"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479C7494-6820-4F7B-919A-00E6A30E5E25}"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E300B2D4-47B5-43BE-82F5-C75A233A5EE2}"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4D2479BE-E771-4302-A272-5943A04FE87B}"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F1734CE6-DE91-4A0A-850A-A160C2FED2F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62C8C749-84A2-4678-885D-0A2F3FF5D7B5}"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E3819CC3-AA83-4398-A5F4-ED0E1F46F172}"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33A64DB2-3F20-482C-B2B3-BBFE45AE2B72}"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D44CC872-9C58-4F19-A8B1-94C52B9E3AE4}"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EC054B01-87BD-4DF6-8AF9-8B74EA4658CD}"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E9244DEA-7A06-4F57-8027-FD1D5ADD7AFA}"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65092B2D-DFA4-4EED-B86B-196EA46BEA5E}"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BA115454-AF52-463D-AEE2-0784A92C0235}"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6D75D7BF-705F-441B-98FF-CCF2316206EF}"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9DA80B09-4992-4106-8225-DA3AA41D7440}"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0BA2D9F5-8E1B-4233-953E-22E46E5D9D7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0951715-0F1D-44B4-9239-A6F4DCEC98E6}"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3368FA1C-D6D9-40E0-BDE8-3CD7568E2A98}"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4E2340EA-378A-4AEF-AF81-07FB48733EF5}"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394D4623-DE46-4953-9DCD-AE1B767D2AC3}"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C001C683-CCE8-48B0-BCE0-82A0E9D02E1A}"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38819E03-8610-4DED-8D7A-8E8DAF3E928B}"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813EE84E-9A3F-4365-91A1-5AC70C5D72B7}"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3C5B172B-905B-435E-80A8-AFBA7305CC59}"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BF08817E-1866-4D4A-BBEF-E7219043D945}"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8538721F-6AFE-4AF5-9FB1-6ADF916B3EAE}"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4BD8F240-22EE-4BCC-8F90-F1C194C05A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C652A3A-B89D-4AC5-BF44-EDA301FFDDC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B08727E-659D-4422-8218-F9665AF6BA85}"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9499242D-26D9-4808-9418-2B93E97E6E83}"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6CF96098-38C2-441F-BEF8-F9E33F0298A7}"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D110C157-4B6F-485F-A09D-801D3393C8D7}"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6902FD5D-1990-4ACB-9F26-673DB5C5F7CA}"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776CBAE3-5614-4263-95A1-1C90706DF045}"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5A575BEE-A1EE-4B02-A23D-1BA8433EC64B}"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F0710AB0-32D5-4476-AAA5-1C0BAD4C2313}"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17A47C27-6FD5-4197-8429-FD6EF664A290}"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56FD5DE0-0017-4183-9CA5-18E0F2BFCD79}"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E1D2B20E-DF2D-45C2-B7AF-C210269B6AD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9E02DBE-6086-4241-9475-04FEC76F415D}"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2C28BB7E-DF97-4254-AAC5-CEE593826B8E}"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C689E085-49C7-4DFA-BC38-F5EA3C34426D}"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8A0D8BBD-AA14-49D6-ADD9-9AC6246BF193}"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BD8A2EAD-BF1E-4728-A09D-D9E0E727B0A1}"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02B5F4B9-8567-4462-8DAD-07A5528D11AA}"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8C06A936-C6D2-4FC7-B595-142F0E63577C}"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E668BF12-E854-47B2-91DC-D1436DC3AC8E}"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5FFFC7E2-C95D-4390-AEFB-B91EC901C82C}"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97BA11C0-B0BD-4999-B316-C97ECF6ED530}"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D7E1343E-3C05-41AD-B176-7076E1006B9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B727F0A-2942-480F-9158-90A6F61EBE9D}"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703E4F25-DB84-4A72-8839-15112FC101D1}"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B8F6FF3A-5A36-4684-B01A-861140D89B35}"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50E26A04-95FE-4C50-BF6E-FD575F996211}"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612C0A2E-8DEB-4329-A500-2551FB230A91}"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F586644B-2EB6-44E7-90BF-CCCCAC56A9C2}"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09D02A63-ABF6-403D-8C1C-65F26E31AC71}"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223CA68C-D508-454C-9243-2D79C801C3F7}"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58A2FD76-B8CB-4120-9BDB-7594DB1E9B5C}"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B87B553B-B3DB-4996-ACAA-9AFFF47FF5CC}"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15E75CD7-97D4-47F2-BBCA-70E7D25BED5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34BF6A0-A366-4E83-A299-656BE1814C5C}"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6E2FA84A-05F9-4532-A3B7-4B24A61249B1}"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9069A43C-DE35-47BA-A4DB-B66DFEF5CA8C}"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963F6BB0-6C07-43B2-B216-6A2A0830A177}"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CA3D061C-98ED-46CE-9A15-C5FF7E330AC1}"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C0E01C51-2AE5-406D-81FC-932AC5A86748}"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66C55FD9-0F05-42B9-8CC5-05DB2686EFC4}"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84B62B12-D1E3-4DAF-8E58-ED7D5D0CAA7A}"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06EE5A0F-A8AC-4962-A531-6BD3F4A08B93}"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AD1753D9-7B5E-4779-B82E-9E3D28A65C7A}"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5B11B20C-5628-4F58-86F2-5FB0E22CF65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A22839E0-1527-4771-B67A-54817935E726}"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5ADBF6A2-103B-4927-8B25-E03DA429D805}"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BA1E77B6-09A2-4AC5-9529-3057135311E4}"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F2A1BB69-63F7-4B2A-A122-11DA0983EAA7}"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C1611094-22E3-48BB-BE3F-F60CC19FCB4B}"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E2A0B529-75EE-4493-81CE-D26555220B4A}"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D34D8FAA-E152-4976-A762-1ED8FA25285F}"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846B4513-C14C-4764-B0B3-71AF009E9A4A}"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77259A2E-6B0D-4680-A721-C5F9F5B15CE1}"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055DB0BD-E12D-4AB4-9934-5D2697223D6D}"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FC1FCE1C-D6DE-4189-8E8E-00C291FA3B3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0721C31-A0FA-4003-A2A4-62D709A2D3BC}"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093B105F-EF60-4FD6-9702-9118BB138FA9}"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EA1ADCD6-C3C5-48C3-8285-12ABDDE5E7C4}"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51568904-9CEE-4638-BC68-AD333D1F9212}"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4C15EEDF-9F11-4269-A4DD-99CA9E21F9A0}"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C5B68244-10FD-4169-9906-98BACEE9DE61}"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2256439A-612D-4BBC-BEB8-425435D3E998}"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264A5C67-AA2C-4A69-A0BE-EC72630A6747}"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A1A46F13-5D41-46AB-AC69-A039708931EA}"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D10E53F6-5759-4770-8625-D3602B07DED7}"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2D166CD6-AF84-4AE1-AD3F-3E214690465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732DFE67-D623-4A58-B6B9-D4DE3A9A50AB}"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025AAB4F-406C-4979-8A5E-DC73B625842F}"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05BB2AA3-CBBB-427A-B5A3-B976EB9EE45F}"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C60A252B-8E9B-4E7B-A9E3-86CBD568306A}"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7EFEACB2-DF80-40C2-A19D-DD6AADB7E4FE}"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850C27D4-1F01-4788-AED4-A787306F3E6E}"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CCB09030-E60F-48B0-B546-D42E72EDD348}"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D9C390DF-6479-4682-B71F-9A2F27A41120}"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90FD1554-2980-4E8F-A8F6-D813481382A2}"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5D251CBF-A9F8-47DB-97DB-F372A3903BDF}"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93D8415C-744C-4919-9D13-5AFF3BE945A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2C5A5F7-C50E-4882-ACD8-5BA6E87B640F}"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EF52A3C1-11C8-4C21-B729-D491DA724329}"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47D596B6-F474-4CE6-AAF0-3416AA7E3EA5}"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3E0840DC-B88E-40D0-A637-88A31E55FFDC}"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D6080D15-9CAA-4117-8A27-6F44143EE437}"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DEFBC678-7AF6-4202-B8C8-1318B00A5197}"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37C55388-4A60-49CD-8888-18E1D010B764}"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9EAE3C84-3AC0-4F44-8E07-09938E0891DF}"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4D31A155-4AA0-4569-9220-779B7844332F}"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90306B58-30AE-4B15-91C7-73FA06B3379E}"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2C9C3FCD-1CF1-48BA-BB2D-5BDE5042226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2328912-0D36-45DE-B1E0-5A48ADF8BDAC}"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C48777DD-8ABE-44F4-ACB3-3D25522E53D6}"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519862FE-9E07-4F20-8759-C115D50C0D3A}"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5133B818-6F1C-4F6D-9CC4-376935989B04}"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A8A1572E-ABB7-4D3D-A12E-98A76D5E2B18}"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853A4228-FF89-47A6-AB1A-42FF93CC6BAF}"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34272BDD-D3F3-4E2C-827E-CB55A4ABE666}"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8B0C2D44-715F-4011-A2FD-1BEAB75BB1C8}"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D325056D-AAEB-4A09-9101-2B07DB668578}"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44220DF5-9E34-4392-B95A-94939E3558B1}"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DF218782-E017-4035-B1AF-DA24589684A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216C6135-744D-4A0A-8121-7DC4F8DE548E}"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8C2010C3-857D-40FC-980D-67FE97B5D510}"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CD3B20F1-6822-46FB-ABE9-2B03E769F9B1}"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360F7A7D-5884-42D6-B78E-C4A78B0A4866}"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F60FF3A1-0F69-4393-9CDC-51E3E1141283}"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A845F0CB-6620-42F3-847E-AC0C524CE1F4}"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AEDAD7E9-CE41-4F30-807E-FCE3FEDE9898}"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CEF4FA77-EB97-48A9-8C15-2D8F13FF13C3}"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8C556E74-3264-47F7-AA45-9BF11CC8DFA3}"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FE0A3AF9-EAE1-4D8A-BE04-B29D1FB569C0}"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A1674CAB-A940-4A5C-BED2-92DE9DFFF7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B26F09A-A40A-4966-AF32-A050994C4A1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03D83780-BC32-4CF1-BE76-C38C8329FA38}"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E7435AD8-C9FC-4AD3-A39B-35F8FC712640}"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53456AB3-F9A5-44D9-A6D6-F6EBAD327A1D}"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222B56CA-3820-4894-B37D-2E484AC72D4E}"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DCF77E8A-6CB8-49F1-A558-0134314B744E}"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03E45357-2F53-49D1-BB58-784A3064462B}"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52039696-C063-430E-8EFD-CC09A9141F00}"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3959D756-7DDE-441F-A817-CBD58EC402BA}"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2C9DECCA-E393-4C62-B1A4-D381C4AAA239}"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496800AD-D1E4-4016-B55B-BA5BB4F84B72}"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D6975EAC-3B12-44C9-A716-2629F60B53A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0CC5C6F-9D51-4B3E-A742-A25CB5D7696D}"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01283A2C-4FB3-4926-AF0C-0DD2128C2DCE}"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713B88FA-1453-4662-97D0-435E818B8182}"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6728ED03-9C51-4AFC-ABD4-56A97D0BDD66}"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46DD11D6-866F-435D-B5E1-B434E06C7CB4}"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4970FACF-288B-4611-94C8-50AAE88E0887}"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863BB561-17CA-4D60-89DE-9D7D31E336E7}"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ECDC9CD7-2BA5-4319-B022-2A04E48D12C8}"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3B3466B3-D43B-481F-A1B0-D150E278B3FC}"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5418AE1C-C3A9-4DFB-AD17-09B835C238B3}"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1DC5FE27-4670-4019-A51B-2C655205E0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82CA8FD-4EC4-43C0-AFB8-5C0AD08594A7}"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F38E0B91-B3CF-45A4-A21D-B8786D24153E}"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4F6F6E36-602B-4313-B397-EFE8FCD13B13}"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453C68D8-B763-45CB-BA2A-45594641248F}"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6A6FD644-01DF-408C-B25E-D2B832EC9F53}"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7B820C78-C20B-43CC-B41F-A2FD9078210C}"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CFA2B57F-C7CA-4280-B486-3A90E2F54E39}"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C80478EB-9E87-4B3B-AD75-53E0527C0CA6}"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3AD028B3-BC08-4981-82B2-023C0242901C}"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7AB5A3DB-A72B-416B-A34B-25E95B732B51}"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86C2F801-2C64-4A6F-AE9A-300B345CDE9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A20357F-5966-4560-A328-F9C19D9AE22A}"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ECF83D3D-24E2-4953-8E32-E7DECFBF386A}"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551F4279-E0A0-4D71-94D4-FCE7E67746D3}"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F57E0729-476B-4BAD-82EB-F29E2D1D1276}"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5428B574-2FA8-4334-912D-5CADB9819C53}"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243198BB-F76A-4872-8696-73B21486F790}"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0E2C050C-F271-458C-BD8B-AE735554EFA1}"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B021B8E9-BE74-4413-9DD9-2C0B61D7F85E}"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4BF9B9D0-197F-4F54-A4A9-20DEF5ABA688}"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521FE410-BBB6-4208-B650-12FC04718896}"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EB71A214-E3E4-4E01-BFB8-43E3535012E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B459B1E-4B0C-4436-A183-488E891B40A0}"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B79CBCDA-9AA2-485D-BE6E-284C0F94F9F8}"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284E7722-CAF4-4AD2-B700-06D46E732E5D}"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8793555C-8D57-49D3-A205-7A0199589B83}"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2A7351CD-ADCC-49C7-B4C3-FDC37F3CCF1A}"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C60EC788-CC8B-48E2-B209-881326B597CC}"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FC1EB86D-252B-4E4F-AED6-ABF48979CEEB}"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2B4A7901-B5A0-47AE-A491-7969604EE41B}"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1A7A4B02-46E3-4844-9AF7-11F06442C4AB}"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0386CC5A-D9C2-42A4-8D13-0E93306F8DF5}"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9027558B-16DD-46AB-8F0A-B69C8BBB77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0DEA49CB-6A17-47EC-8493-C0A50EF449F1}"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8A4B0121-9E6B-44C9-8A21-D391B2B3721B}"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4DAC8BC1-D13B-46DE-8059-605DB79FF91C}"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F9F4AFC4-05F5-4B51-BDF5-C5D24EAC3560}"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1B211256-5204-4797-8F4A-1029DA74D2EF}"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38DC3F6A-D737-4228-BFF1-B93508FB7443}"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C721BD83-D519-4034-A65D-D84633FA7DA1}"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6124AA04-ECF7-4868-B5C4-9D68C98AB340}"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6EC0674C-3D9B-4990-A6B4-44C139EBBE85}"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2F46371F-B405-4C3D-A1CD-99AB7FF770A7}"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4AC19D9E-110C-4EBD-AF3B-9BE4561F7C2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D07F9912-089A-4526-93F9-853B99E16EA9}"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A0533EAD-5E21-47BD-9524-7EB8DBE4CB31}"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A320D139-867B-4761-9102-1D002CC95562}"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55E732DE-5438-4172-BAC3-DCE07BCCBE03}"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2CF4B433-267B-470B-A380-64E832D36E6C}"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6C617640-54A3-4173-8F0E-B542853282EA}"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35831174-C09C-476F-B2EC-0670554815E4}"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19F962F8-ABCA-418E-B8BE-DDABD6B4B1B8}"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07DB8AF4-4B66-4AA6-B1CD-F64929FF0106}"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A64F7FB7-12D7-462A-A1AE-0EFCFEA8E034}"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05EBF5DD-7F37-44AB-A74F-CF170B3940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28D5F77-4713-4628-8B47-08CE698B1E98}"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FB5CE896-26D4-42E5-B5EF-E5DF95B2664D}"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5AF38967-C0C1-4A6C-8F2C-F4C83DB3FA34}"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231F63D0-B8D7-4D6D-AB8B-D72AD0CB5173}"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60EAF739-EDA0-4AF1-A7E4-D6E1C7832037}"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8F8DF359-5B88-4C44-9E25-CB38FA88EB23}"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056899A9-EA31-402C-AB8B-874B2BABCF41}"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AF737ABD-79F3-4F38-A477-716FD560E94B}"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C179D931-FC02-497A-8CDC-A217096E9165}"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080DFE1F-8BF8-40E1-9EBF-D17A88485788}"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3225151F-1D89-445A-8A7A-A0E0FDA7C5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41DE420-3AC2-4BF0-BE0C-8F64D73743D6}"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CE7EA71E-6B74-45E0-9294-014F68AC119A}"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B83F5C4C-1FE1-4EAF-BB83-1476D7657481}"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92A4863E-6B5C-4A08-AFF1-1D6AD3D4C136}"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9EDFBBC0-285D-49E5-A5A5-61D4E8526BA4}"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5DD7AB86-D64D-4353-BB73-48DACB5EB7BD}"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1BDA6569-7667-4998-9121-AD5D0DBE4286}"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4F383B8D-8FFB-4698-8B9B-2C1F1CB2DED0}"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C5C71B21-37B0-4983-990B-CD550ACCB169}"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F1F1E63A-1EA8-456D-A12A-3262D150E67B}"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B5420CF7-3E52-44E3-AE40-A8C93E61133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65D2CCF-6115-46B5-9F1C-D216C5979BF0}"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B028B349-3A25-40D9-9B30-AB166C9D93A7}"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EBCC99BB-E776-4F4C-B4C0-1A634AB623C9}"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3C4FDA39-9E8D-4AED-8DD0-33B2EEDD447A}"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9EA532FD-3D34-4CCD-8A8A-F1EEEA54C292}"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C1491EA9-F4A9-4872-8342-19BD2EB473B5}"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C5244679-0CDF-4452-8330-B3083267F572}"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65DE3680-0520-410B-9527-16134286D28B}"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BF24A79D-C369-4415-9546-2B35F408C1FF}"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DA59C062-EC8D-4CA3-86F2-487240FFC33A}"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923F831A-2ED3-4A8D-81C9-BFCA814799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9F396-EBA8-4486-B55C-9AD714C13C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66BE0-A539-42A8-B020-D3F7483FA9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57212-CCBB-43E1-9360-448E54E6AE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C2BA3-CD67-49A8-89FC-1D7939A3A5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E7EB2-14EA-41B2-813F-A5DED982A1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07854E-7126-4ED3-B7AE-D0709481A7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8384B-8B5D-4C8B-8174-83735DD3C0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F3FCA-78ED-4A4A-99E7-12C60FC4C9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6AD12-95BC-4D4C-BCDC-D287989602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26AD3-C1D0-4A6B-BD3B-2F515F806D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3F8D8-0A1E-472C-97D8-2E44D0B025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38EB6-58E5-45C2-8CE1-DA87850398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C349A-8F5B-4A6B-B75F-55C5BB815B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CCE4D-C2D4-40B4-9CCF-B2A026F269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1EFC50-405D-466F-BC36-B3805FF0B1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589DE1-77E8-4756-880B-451823982E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7CD76-4099-4839-B069-01C8550B45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F1777D-1683-4CE2-AC23-0F8598F8BA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55D9D0-93F4-450A-A7A7-EF2690A655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4445A-5349-46AB-8E95-52EE540EF2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FBAD1-411F-4E35-90DB-C0B013690D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77228-2D2B-43AA-9EC5-0E2F544C58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8C7E2-2635-4BF4-B3B6-AAC6D98296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B9BC8-848B-4251-BCC3-ADFA7E5D41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A7915-5A83-4913-9FAF-24B6569E2E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A1314-9122-4FE1-84F6-CC9D9424C7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7E9FBA-1D3F-4EBE-A38B-2FF62C378B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886B8-B388-4D91-82D6-E340B245D9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FDC7F3-A7AD-41FA-A733-AE65A65F70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67CBA-AAF1-4A7F-A2FA-7D94E7B6BC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D938AB-FDCD-4469-A85E-BF1A703703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E70C5-7EAE-4F47-B133-D6112B4332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94D2AE-26BB-4210-B691-C937BBF00C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312E5-A90E-4DBB-9154-F72038740C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828E8-4143-400C-971D-635D77A1C87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AA51E-D63C-49B6-90A2-BB0B7025C3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4B033-AC72-400C-99D5-6D2C7443DC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F387A-E759-43CD-88E4-8789A68F90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F78EA9-998D-45CD-A1BD-37C9C74B2D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C284E-73D6-41EE-B9BD-4C517DC1EC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08390F-EECD-488B-8383-EF5E49EDE6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1DA4B-BF0D-47F8-B395-8F2C1C19E0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61C88-DEC0-4114-B7F2-031FBB59E7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211855-9B34-4736-B926-8D14BD0C30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492F1-8D7C-4FF0-BC61-462C6A76FF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3F474-BCEF-4796-8EAE-BC546B9F65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B3502B-3567-4D3C-8CD2-32166D01CB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9CDF4-7278-4B2E-8F6C-27C09FF33B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D1B0C-8E54-40D9-B048-F2217A533F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1585F-F01A-4B8F-A580-CBAF0CEABB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BA438C-3B00-42E2-8865-A84CD1AE3A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B44CE-D839-48BE-ACC2-2D76CB4026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CB539-8153-448F-8E23-1D6FF234090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A9D6F-D038-4BD6-9CD5-3F394F4B075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59523-3C1E-4872-B814-C27014BEE1C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1AA5CB-0E3A-4D2D-8401-BA25DE24E54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07027-E8B1-4ECA-B5B1-C648D43473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63A47-5D8C-4377-BADE-6634A97DC21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6A1EF8-8617-4332-BDEA-57F6F45FF70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8705D-B201-4430-9DFB-6E0D0486896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934B17-092B-4D98-BC25-E2D070A2DCD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941A84-A413-4BB7-A3A9-25AB4620C24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F5E992-FF6D-4265-A74C-D56DAD5B819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8CACA-C866-4F07-9C7A-4D01F0048E0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FA39E3-45DF-4DA2-AA04-DDF820A6F4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10B21-5877-4CE5-B11C-A996CB12C9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F97DA4-9F88-4FD9-8FE6-9E2C1A0B7B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CEFF8-5415-488C-9DA2-F587C0FBB9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6224E7-3376-456A-B077-C9D025D0F0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878762-546D-4F02-8EE2-0256AFBCCB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5CC328-3B4D-495A-9327-E56E7C985F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50BBE-9437-472E-9484-C9A4BB9736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FDF20-7C19-4625-8D3A-FEC75D084D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7767B-49B6-4AA0-9E7F-D7D162BB75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0F2A7B-94FF-4B72-A3FE-EC5DE17226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641780-3164-4B6E-8DCB-36082558294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8EC1D-E6A8-4473-860C-3E7C51C795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118FF-E194-4BCA-9E00-45C2CE6B30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AF3FB8-EA77-4CE2-8FD1-4DF4E4364B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D856D-F0E3-405E-99EB-70EA05AB0AC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E7112-6BA4-4D69-9C13-E878345CA4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3DB39-BC6F-405E-860F-F4E8D70524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70638A-CF1A-44FF-B280-80518207C0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E3F64E-1B69-46F5-90E8-8C4BBB2968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4EFCD-838C-492A-99AC-D4AB4B147C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391F2-66F3-4AE0-ACC2-26CC67B5F4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88DF51-5662-4CFB-B41F-4CEB1B23F8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F7F7AF-AE3A-4D71-9BDE-183B6D7A42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64BC9-DFA6-478A-8C0F-23E179FB96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CB847-C030-4425-AA78-A95CDC210B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97276-78D3-4DCD-88DD-051B778748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E48847-6D52-48D5-82BE-317EB80303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B90CC-B47F-4C16-B202-3D4DE3E9B2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19E8B5-AB9E-4F70-B3C6-661A8685A4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B27F7-562F-4F1A-935A-36305FEC4D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01E285-A6F7-4C0E-901E-15F8EB9C20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4630E-CB2A-4FFC-A13B-15BD3F151E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99635-2BDF-44C7-AE71-38D5FB1DBE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310FB-E0B6-47A4-ACF1-43E6C809C1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3C94D8-B54C-41B4-BB66-35F4A60AA9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BFA27B-AA57-4BC3-8668-74D2FA6BED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22B9E-68CB-408F-957B-C05782F614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4F2C9-C83C-4CA7-82EB-36C5A6F849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3E21B-B231-4409-A529-1E45FD33B4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86BBF-4021-4CE0-8690-9A47DFA855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34D69-12C8-4613-B747-F535C3D538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224A9-E5A8-4955-9A19-3C3A460836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06E7C-CE98-42C1-8DC8-AB4A1C27B1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F70A1-3DAF-4B97-B26A-0943004C1D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CD121-6FC0-493A-829C-86781899F2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F8D11-F2B2-45F7-8D56-9DABCB34CD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A488A-B30B-4393-9817-4B6CC056A1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14D22-C165-479A-ABB7-D4C63A327F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38F81-0B30-4828-BB6E-305112865A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42E4C-EEAC-4D2B-83FC-BB54D1E057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EC4D91-5A86-4588-AFBB-7315F1C7C7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07C0C-5C97-4F01-8889-4197DC8366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3E014-4D2C-49B2-9685-C6D49695CB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568AC-02F3-465A-BB62-1F72789EEA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431B7-2644-4EAE-B1F2-4EF50AC3C1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FD8F5-DBA1-4539-81EE-08F50EE601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108EF5-6685-49A7-A2C1-BBA5B5B9D4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32A4B-6C15-488D-986F-FBE63EA7D8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C2A07-4840-43F5-910C-FBC1D92C1B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D6EA6F-99A4-4AB0-8DFF-BA3B3149744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83230-C89B-4094-B3D4-EF7FD98F25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1A948-1118-42A4-8D97-2F54ABD44A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75551-C3C8-4BC3-BCA4-0042D8F7D4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B7EF50-C8BA-49B4-A103-AD32BA61C8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6E348-6FAE-4FE3-9A6A-D874F0F71C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3F817-250E-470D-8411-BD726D0AC2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7C2A29-F08E-4E4B-9F93-F43BC52B75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229B3-E409-4684-9389-026AFCFB70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FDE35-67FC-4127-9409-C67FAFA1DD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E90B2-7E28-4121-8E42-18409CCA35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96AB0-DE56-48D3-BBF3-45152A6F01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65AB9-4B12-4E39-85AB-10726769DB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89A7A-E1A3-4B2A-8476-EDC394054B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6AACA6-2D46-4F0F-ACBD-844C327DED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5D6AB-8663-4AB7-855F-2EB14E939D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960121-A04D-49E9-B830-9918120179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E2BA74-ED8F-4105-8608-97FA6337D2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BABFBB-2F6F-4E3B-AFDC-7C1F00042E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8F87B-007E-49B2-B557-47BFE5DBF0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A771D5-39B1-4986-977D-FE889EA06D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2FDBC-BF42-4D8E-B343-5414DC342F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C725B-F5CA-4E03-97F5-FD388C3AC9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8C9D3-7B51-4B59-8597-0F3735CE01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EAEF4-4A3B-4654-B545-C3F46F8F59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A08824-CD5A-4D7F-AF67-3AB41C4D37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B01DC-53FB-4C28-B9AE-9753CCEDC0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63F70C-D272-4FB5-98E6-D0AA1DEB13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24547-31F4-4476-8890-40A9A956ED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841949-4A87-485B-9263-B6BDF8288E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D797E1-19B7-41E1-96EA-7AB43FE346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27154-1E6B-4BE0-9422-BEB079CF55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285840" y="1071720"/>
            <a:ext cx="8534160" cy="4713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πιμέρους Στόχοι της 5</a:t>
            </a:r>
            <a:r>
              <a:rPr b="1" lang="el-GR" sz="2800" spc="-1" strike="noStrike" baseline="30000">
                <a:solidFill>
                  <a:srgbClr val="000000"/>
                </a:solidFill>
                <a:latin typeface="Times New Roman"/>
                <a:ea typeface="Arial"/>
              </a:rPr>
              <a:t>ης</a:t>
            </a:r>
            <a:r>
              <a:rPr b="1" lang="el-GR" sz="2800" spc="-1" strike="noStrike">
                <a:solidFill>
                  <a:srgbClr val="000000"/>
                </a:solidFill>
                <a:latin typeface="Times New Roman"/>
                <a:ea typeface="Arial"/>
              </a:rPr>
              <a:t> ενότητας που επιγράφεται : «Θεσμικό Πλαίσιο Συνδιδασκαλίας-Μοντέλα Ένταξης -Προβλήματα και προϋποθέσεις </a:t>
            </a:r>
            <a:br>
              <a:rPr sz="2800"/>
            </a:br>
            <a:r>
              <a:rPr b="1" lang="el-GR" sz="2800" spc="-1" strike="noStrike">
                <a:solidFill>
                  <a:srgbClr val="000000"/>
                </a:solidFill>
                <a:latin typeface="Times New Roman"/>
                <a:ea typeface="Arial"/>
              </a:rPr>
              <a:t>Σχολικής Ένταξης-Παράγοντες Σχολικής Ένταξης»</a:t>
            </a:r>
            <a:br>
              <a:rPr sz="2800"/>
            </a:br>
            <a:r>
              <a:rPr b="1" lang="el-GR" sz="2800" spc="-1" strike="noStrike">
                <a:solidFill>
                  <a:srgbClr val="000000"/>
                </a:solidFill>
                <a:latin typeface="Times New Roman"/>
                <a:ea typeface="Arial"/>
              </a:rPr>
              <a:t> </a:t>
            </a:r>
            <a:br>
              <a:rPr sz="2800"/>
            </a:br>
            <a:r>
              <a:rPr b="0" lang="el-GR" sz="2800" spc="-1" strike="noStrike">
                <a:solidFill>
                  <a:srgbClr val="000000"/>
                </a:solidFill>
                <a:latin typeface="Times New Roman"/>
              </a:rPr>
              <a:t>Θα παρουσιάσουμε και θα εστιάσουμε στη συνεκπαίδευση και στη συνδιδασκαλία </a:t>
            </a:r>
            <a:br>
              <a:rPr sz="2800"/>
            </a:br>
            <a:r>
              <a:rPr b="0" lang="el-GR" sz="2800" spc="-1" strike="noStrike">
                <a:solidFill>
                  <a:srgbClr val="000000"/>
                </a:solidFill>
                <a:latin typeface="Times New Roman"/>
              </a:rPr>
              <a:t>ως  μια  </a:t>
            </a:r>
            <a:r>
              <a:rPr b="1" lang="el-GR" sz="2800" spc="-1" strike="noStrike">
                <a:solidFill>
                  <a:srgbClr val="000000"/>
                </a:solidFill>
                <a:latin typeface="Times New Roman"/>
              </a:rPr>
              <a:t>μορφή ένταξης και 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357120" y="1392120"/>
            <a:ext cx="83581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ίναι ένας τρόπος να μειωθούν τα προβλήματα αποκλεισμού και να παρέχουμε υπηρεσίες στα παιδιά με ειδικές εκπαιδευτικές ανάγκες. </a:t>
            </a:r>
            <a:br>
              <a:rPr sz="2800"/>
            </a:br>
            <a:br>
              <a:rPr sz="2800"/>
            </a:br>
            <a:r>
              <a:rPr b="0" lang="el-GR" sz="2800" spc="-1" strike="noStrike">
                <a:solidFill>
                  <a:srgbClr val="000000"/>
                </a:solidFill>
                <a:latin typeface="Times New Roman"/>
              </a:rPr>
              <a:t> Η συνδιδασκαλία είναι μία πρόταση με θετικά στοιχεία, καθώς απαιτείται </a:t>
            </a:r>
            <a:r>
              <a:rPr b="1" lang="el-GR" sz="2800" spc="-1" strike="noStrike">
                <a:solidFill>
                  <a:srgbClr val="000000"/>
                </a:solidFill>
                <a:latin typeface="Times New Roman"/>
              </a:rPr>
              <a:t>συνεργασία των εκπαιδευτικών γενικής και ειδικής αγωγής, </a:t>
            </a:r>
            <a:br>
              <a:rPr sz="2800"/>
            </a:br>
            <a:r>
              <a:rPr b="1" lang="el-GR" sz="2800" spc="-1" strike="noStrike">
                <a:solidFill>
                  <a:srgbClr val="000000"/>
                </a:solidFill>
                <a:latin typeface="Times New Roman"/>
              </a:rPr>
              <a:t>αλλά και η συνεργασία ειδικών </a:t>
            </a:r>
            <a:br>
              <a:rPr sz="2800"/>
            </a:br>
            <a:r>
              <a:rPr b="1" lang="el-GR" sz="2800" spc="-1" strike="noStrike">
                <a:solidFill>
                  <a:srgbClr val="000000"/>
                </a:solidFill>
                <a:latin typeface="Times New Roman"/>
              </a:rPr>
              <a:t>διάφορων ειδικοτήτων.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500040" y="1392120"/>
            <a:ext cx="79596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καταιγισμούς ιδεών, παιχνίδι ρόλων,</a:t>
            </a:r>
            <a:br>
              <a:rPr sz="2800"/>
            </a:br>
            <a:r>
              <a:rPr b="0" i="1" lang="el-GR" sz="2800" spc="-1" strike="noStrike">
                <a:solidFill>
                  <a:srgbClr val="000000"/>
                </a:solidFill>
                <a:latin typeface="Times New Roman"/>
              </a:rPr>
              <a:t> αντιπαράθεση απόψεων, κλπ</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ι τη 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ορίζετε τη μορφή της  συνδιδασκαλίας,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 είναι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a:t>
            </a:r>
            <a:br>
              <a:rPr sz="2800"/>
            </a:br>
            <a:r>
              <a:rPr b="0" i="1" lang="el-GR" sz="2800" spc="-1" strike="noStrike">
                <a:solidFill>
                  <a:srgbClr val="000000"/>
                </a:solidFill>
                <a:latin typeface="Times New Roman"/>
              </a:rPr>
              <a:t>την οποία διαχειρίζονται από κοινού και έχουν ως σκοπό την προσέγγιση από όλους τους μαθητές,</a:t>
            </a:r>
            <a:br>
              <a:rPr sz="2800"/>
            </a:br>
            <a:r>
              <a:rPr b="0" i="1" lang="el-GR" sz="2800" spc="-1" strike="noStrike">
                <a:solidFill>
                  <a:srgbClr val="000000"/>
                </a:solidFill>
                <a:latin typeface="Times New Roman"/>
              </a:rPr>
              <a:t> με ειδικές εκπαιδευτικές ανάγκες και αναπηρίες αλλά και χωρίς»</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θέτετε τους Στόχους της συνδιδασκαλίας, όπως :</a:t>
            </a:r>
            <a:br>
              <a:rPr sz="2800"/>
            </a:br>
            <a:br>
              <a:rPr sz="2800"/>
            </a:br>
            <a:r>
              <a:rPr b="0" lang="el-GR" sz="2800" spc="-1" strike="noStrike">
                <a:solidFill>
                  <a:srgbClr val="000000"/>
                </a:solidFill>
                <a:latin typeface="Times New Roman"/>
              </a:rPr>
              <a:t>Αύξηση των εκπαιδευτικών επιλογών  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των μαθητών αμεα,</a:t>
            </a:r>
            <a:br>
              <a:rPr sz="2800"/>
            </a:br>
            <a:br>
              <a:rPr sz="2800"/>
            </a:br>
            <a:r>
              <a:rPr b="0" lang="el-GR" sz="2800" spc="-1" strike="noStrike">
                <a:solidFill>
                  <a:srgbClr val="000000"/>
                </a:solidFill>
                <a:latin typeface="Times New Roman"/>
              </a:rPr>
              <a:t>Βελτίωση της απόδοσης στο σχολείο  των μαθητών αμεα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α πλαίσια  </a:t>
            </a:r>
            <a:br>
              <a:rPr sz="2800"/>
            </a:br>
            <a:r>
              <a:rPr b="1" lang="el-GR" sz="2800" spc="-1" strike="noStrike">
                <a:solidFill>
                  <a:srgbClr val="000000"/>
                </a:solidFill>
                <a:latin typeface="Times New Roman"/>
              </a:rPr>
              <a:t>συνεργασίας ειδικού και γενικού παιδαγωγού ,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αποτελεί πρόκληση για την εκπαιδευτική κοινότητα,  και η οποία </a:t>
            </a:r>
            <a:r>
              <a:rPr b="1" lang="el-GR" sz="2800" spc="-1" strike="noStrike">
                <a:solidFill>
                  <a:srgbClr val="000000"/>
                </a:solidFill>
                <a:latin typeface="Times New Roman"/>
              </a:rPr>
              <a:t>προωθεί τη συνεκπαίδευση και τη συνδιδασκαλία</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α </a:t>
            </a:r>
            <a:br>
              <a:rPr sz="2800"/>
            </a:br>
            <a:r>
              <a:rPr b="1" lang="el-GR" sz="2800" spc="-1" strike="noStrike">
                <a:solidFill>
                  <a:srgbClr val="000000"/>
                </a:solidFill>
                <a:latin typeface="Times New Roman"/>
              </a:rPr>
              <a:t>χαρακτηριστικά που διέπουν την συνδιδασκαλί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α Μειονεκτήματα και τα  Πλεονεκτήματα της Συνδιδασκαλίας</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ους  τύπους συνδιδασκαλίας  και να περιγράφετε τους ρόλους των εκπαιδευτικών </a:t>
            </a:r>
            <a:br>
              <a:rPr sz="2800"/>
            </a:br>
            <a:r>
              <a:rPr b="1" lang="el-GR" sz="2800" spc="-1" strike="noStrike">
                <a:solidFill>
                  <a:srgbClr val="000000"/>
                </a:solidFill>
                <a:latin typeface="Times New Roman"/>
              </a:rPr>
              <a:t>[των συν-διδασκάλων]</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το Θεσμικό Πλαίσιο  συνδιδασκαλίας στην χώρα μας</a:t>
            </a:r>
            <a:br>
              <a:rPr sz="2800"/>
            </a:br>
            <a:br>
              <a:rPr sz="2800"/>
            </a:br>
            <a:r>
              <a:rPr b="0" lang="el-GR" sz="2800" spc="-1" strike="noStrike">
                <a:solidFill>
                  <a:srgbClr val="000000"/>
                </a:solidFill>
                <a:latin typeface="Times New Roman"/>
              </a:rPr>
              <a:t> Να συνειδητοποιήσετε πως λειτουργεί </a:t>
            </a:r>
            <a:br>
              <a:rPr sz="2800"/>
            </a:br>
            <a:r>
              <a:rPr b="1" lang="el-GR" sz="2800" spc="-1" strike="noStrike">
                <a:solidFill>
                  <a:srgbClr val="000000"/>
                </a:solidFill>
                <a:latin typeface="Times New Roman"/>
              </a:rPr>
              <a:t>η συνδιδασκαλία στην Ελληνική πραγματικότητα</a:t>
            </a:r>
            <a:br>
              <a:rPr sz="2800"/>
            </a:b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ΝΟΤΗΤΑ 5</a:t>
            </a:r>
            <a:r>
              <a:rPr b="1" lang="el-GR" sz="2800" spc="-1" strike="noStrike" baseline="30000">
                <a:solidFill>
                  <a:srgbClr val="000000"/>
                </a:solidFill>
                <a:latin typeface="Times New Roman"/>
                <a:ea typeface="Arial"/>
              </a:rPr>
              <a:t>Η</a:t>
            </a:r>
            <a:br>
              <a:rPr sz="2800"/>
            </a:br>
            <a:br>
              <a:rPr sz="2800"/>
            </a:br>
            <a:r>
              <a:rPr b="1" lang="el-GR" sz="2800" spc="-1" strike="noStrike">
                <a:solidFill>
                  <a:srgbClr val="000000"/>
                </a:solidFill>
                <a:latin typeface="Times New Roman"/>
                <a:ea typeface="Arial"/>
              </a:rPr>
              <a:t>Θεσμικό Πλαίσιο Συνδιδασκαλίας</a:t>
            </a:r>
            <a:br>
              <a:rPr sz="2800"/>
            </a:br>
            <a:r>
              <a:rPr b="1" lang="el-GR" sz="2800" spc="-1" strike="noStrike">
                <a:solidFill>
                  <a:srgbClr val="000000"/>
                </a:solidFill>
                <a:latin typeface="Times New Roman"/>
                <a:ea typeface="Arial"/>
              </a:rPr>
              <a:t>Μοντέλα Ένταξης </a:t>
            </a:r>
            <a:br>
              <a:rPr sz="2800"/>
            </a:br>
            <a:r>
              <a:rPr b="1" lang="el-GR" sz="2800" spc="-1" strike="noStrike">
                <a:solidFill>
                  <a:srgbClr val="000000"/>
                </a:solidFill>
                <a:latin typeface="Times New Roman"/>
                <a:ea typeface="Arial"/>
              </a:rPr>
              <a:t>Προβλήματα και προϋποθέσεις </a:t>
            </a:r>
            <a:br>
              <a:rPr sz="2800"/>
            </a:br>
            <a:r>
              <a:rPr b="1" lang="el-GR" sz="2800" spc="-1" strike="noStrike">
                <a:solidFill>
                  <a:srgbClr val="000000"/>
                </a:solidFill>
                <a:latin typeface="Times New Roman"/>
                <a:ea typeface="Arial"/>
              </a:rPr>
              <a:t>Σχολικής Ένταξης</a:t>
            </a:r>
            <a:br>
              <a:rPr sz="2800"/>
            </a:br>
            <a:r>
              <a:rPr b="1" lang="el-GR" sz="2800" spc="-1" strike="noStrike">
                <a:solidFill>
                  <a:srgbClr val="000000"/>
                </a:solidFill>
                <a:latin typeface="Times New Roman"/>
                <a:ea typeface="Arial"/>
              </a:rPr>
              <a:t>Παράγοντες Σχολικής Ένταξης</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800"/>
            </a:br>
            <a:r>
              <a:rPr b="1" lang="el-GR" sz="2800" spc="-1" strike="noStrike">
                <a:solidFill>
                  <a:srgbClr val="000000"/>
                </a:solidFill>
                <a:latin typeface="Times New Roman"/>
                <a:ea typeface="Arial"/>
              </a:rPr>
              <a:t> </a:t>
            </a:r>
            <a:br>
              <a:rPr sz="2800"/>
            </a:br>
            <a:endParaRPr b="0" lang="en-US" sz="28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ους Ρόλους  </a:t>
            </a:r>
            <a:br>
              <a:rPr sz="2800"/>
            </a:br>
            <a:r>
              <a:rPr b="1" lang="el-GR" sz="2800" spc="-1" strike="noStrike">
                <a:solidFill>
                  <a:srgbClr val="000000"/>
                </a:solidFill>
                <a:latin typeface="Times New Roman"/>
              </a:rPr>
              <a:t>των εκπαιδευτικών στην κυρίαρχη μορφή </a:t>
            </a:r>
            <a:br>
              <a:rPr sz="2800"/>
            </a:br>
            <a:r>
              <a:rPr b="1" lang="el-GR" sz="2800" spc="-1" strike="noStrike">
                <a:solidFill>
                  <a:srgbClr val="000000"/>
                </a:solidFill>
                <a:latin typeface="Times New Roman"/>
              </a:rPr>
              <a:t>της συνδιδασκαλίας ,την  Παράλληλη Στήριξη</a:t>
            </a:r>
            <a:br>
              <a:rPr sz="2000"/>
            </a:b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Να συσχετίζετε τα Μοντέλα Σχολικής Ένταξης</a:t>
            </a:r>
            <a:r>
              <a:rPr b="0" lang="el-GR" sz="2800" spc="-1" strike="noStrike">
                <a:solidFill>
                  <a:srgbClr val="000000"/>
                </a:solidFill>
                <a:latin typeface="Times New Roman"/>
              </a:rPr>
              <a:t> των μαθητών με ειδικές εκπαιδευτικές ανάγκες </a:t>
            </a:r>
            <a:br>
              <a:rPr sz="2800"/>
            </a:br>
            <a:r>
              <a:rPr b="0" lang="el-GR" sz="2800" spc="-1" strike="noStrike">
                <a:solidFill>
                  <a:srgbClr val="000000"/>
                </a:solidFill>
                <a:latin typeface="Times New Roman"/>
              </a:rPr>
              <a:t>στα  οποία αποτυπώνεται η εκπαιδευτική πολιτική</a:t>
            </a:r>
            <a:br>
              <a:rPr sz="2800"/>
            </a:br>
            <a:r>
              <a:rPr b="0" lang="el-GR" sz="2800" spc="-1" strike="noStrike">
                <a:solidFill>
                  <a:srgbClr val="000000"/>
                </a:solidFill>
                <a:latin typeface="Times New Roman"/>
              </a:rPr>
              <a:t>που προωθείται σε κάθε χώρα </a:t>
            </a:r>
            <a:br>
              <a:rPr sz="2800"/>
            </a:br>
            <a:r>
              <a:rPr b="0" lang="el-GR" sz="2800" spc="-1" strike="noStrike">
                <a:solidFill>
                  <a:srgbClr val="000000"/>
                </a:solidFill>
                <a:latin typeface="Times New Roman"/>
              </a:rPr>
              <a:t>για τα άτομα με αναπηρία.</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επιχειρείτε την ταξινόμηση </a:t>
            </a:r>
            <a:br>
              <a:rPr sz="2800"/>
            </a:br>
            <a:r>
              <a:rPr b="0" lang="el-GR" sz="2800" spc="-1" strike="noStrike">
                <a:solidFill>
                  <a:srgbClr val="000000"/>
                </a:solidFill>
                <a:latin typeface="Times New Roman"/>
              </a:rPr>
              <a:t>των </a:t>
            </a:r>
            <a:r>
              <a:rPr b="1" lang="el-GR" sz="2800" spc="-1" strike="noStrike">
                <a:solidFill>
                  <a:srgbClr val="000000"/>
                </a:solidFill>
                <a:latin typeface="Times New Roman"/>
              </a:rPr>
              <a:t>μοντέλων ένταξης</a:t>
            </a:r>
            <a:br>
              <a:rPr sz="2800"/>
            </a:b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τη Σχολική Κουλτούρα.</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εριγράφετε την  κουλτούρα , </a:t>
            </a:r>
            <a:br>
              <a:rPr sz="2800"/>
            </a:br>
            <a:r>
              <a:rPr b="1" lang="el-GR" sz="2800" spc="-1" strike="noStrike">
                <a:solidFill>
                  <a:srgbClr val="000000"/>
                </a:solidFill>
                <a:latin typeface="Times New Roman"/>
              </a:rPr>
              <a:t>η οποί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εξηγείτε και να επισημαίνετε ότι </a:t>
            </a:r>
            <a:br>
              <a:rPr sz="2800"/>
            </a:b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τιπαραβάλλετε  τα κυρίαρχα είδη  σχολικής κουλτούρας  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000"/>
            </a:b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a:t>
            </a:r>
            <a:br>
              <a:rPr sz="2800"/>
            </a:br>
            <a:r>
              <a:rPr b="0" lang="el-GR" sz="2800" spc="-1" strike="noStrike">
                <a:solidFill>
                  <a:srgbClr val="000000"/>
                </a:solidFill>
                <a:latin typeface="Times New Roman"/>
              </a:rPr>
              <a:t>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είναι </a:t>
            </a: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 οι οποίοι είναι </a:t>
            </a:r>
            <a:r>
              <a:rPr b="0" lang="el-GR" sz="2800" spc="-1" strike="noStrike">
                <a:solidFill>
                  <a:srgbClr val="000000"/>
                </a:solidFill>
                <a:latin typeface="Times New Roman"/>
              </a:rPr>
              <a:t>υπεύθυνοι για την υιοθέτηση, διαμόρφωση και </a:t>
            </a:r>
            <a:br>
              <a:rPr sz="2800"/>
            </a:br>
            <a:r>
              <a:rPr b="0" lang="el-GR" sz="2800" spc="-1" strike="noStrike">
                <a:solidFill>
                  <a:srgbClr val="000000"/>
                </a:solidFill>
                <a:latin typeface="Times New Roman"/>
              </a:rPr>
              <a:t>την προώθηση της σχολικής κουλτούρας .</a:t>
            </a:r>
            <a:br>
              <a:rPr sz="2800"/>
            </a:b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a:t>
            </a:r>
            <a:r>
              <a:rPr b="0" lang="el-GR" sz="2800" spc="-1" strike="noStrike">
                <a:solidFill>
                  <a:srgbClr val="000000"/>
                </a:solidFill>
                <a:latin typeface="Times New Roman"/>
              </a:rPr>
              <a:t>όπως είναι </a:t>
            </a:r>
            <a:br>
              <a:rPr sz="2800"/>
            </a:br>
            <a:r>
              <a:rPr b="0" lang="el-GR" sz="2800" spc="-1" strike="noStrike">
                <a:solidFill>
                  <a:srgbClr val="000000"/>
                </a:solidFill>
                <a:latin typeface="Times New Roman"/>
              </a:rPr>
              <a:t> </a:t>
            </a:r>
            <a:r>
              <a:rPr b="1" lang="el-GR" sz="2800" spc="-1" strike="noStrike">
                <a:solidFill>
                  <a:srgbClr val="000000"/>
                </a:solidFill>
                <a:latin typeface="Times New Roman"/>
              </a:rPr>
              <a:t>ο ρόλος των γονέων και των κηδεμόνων </a:t>
            </a:r>
            <a:br>
              <a:rPr sz="2800"/>
            </a:br>
            <a:r>
              <a:rPr b="0" lang="el-GR" sz="2800" spc="-1" strike="noStrike">
                <a:solidFill>
                  <a:srgbClr val="000000"/>
                </a:solidFill>
                <a:latin typeface="Times New Roman"/>
              </a:rPr>
              <a:t>στην προώθηση των διαδικασιών της ένταξης ,</a:t>
            </a:r>
            <a:br>
              <a:rPr sz="2800"/>
            </a:br>
            <a:r>
              <a:rPr b="0" lang="el-GR" sz="2800" spc="-1" strike="noStrike">
                <a:solidFill>
                  <a:srgbClr val="000000"/>
                </a:solidFill>
                <a:latin typeface="Times New Roman"/>
              </a:rPr>
              <a:t>που αναγνωρίζεται ως καθοριστικός . </a:t>
            </a:r>
            <a:br>
              <a:rPr sz="2800"/>
            </a:b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a:t>
            </a:r>
            <a:br>
              <a:rPr sz="2800"/>
            </a:br>
            <a:r>
              <a:rPr b="1" lang="el-GR" sz="2800" spc="-1" strike="noStrike">
                <a:solidFill>
                  <a:srgbClr val="000000"/>
                </a:solidFill>
                <a:latin typeface="Times New Roman"/>
              </a:rPr>
              <a:t> οι ειδικοί επαγγελματίες  </a:t>
            </a:r>
            <a:br>
              <a:rPr sz="2800"/>
            </a:br>
            <a:r>
              <a:rPr b="1" lang="el-GR" sz="2800" spc="-1" strike="noStrike">
                <a:solidFill>
                  <a:srgbClr val="000000"/>
                </a:solidFill>
                <a:latin typeface="Times New Roman"/>
              </a:rPr>
              <a:t>στους οποίους περιλαμβάνονται </a:t>
            </a:r>
            <a:br>
              <a:rPr sz="2800"/>
            </a:br>
            <a:r>
              <a:rPr b="1" lang="el-GR" sz="2800" spc="-1" strike="noStrike">
                <a:solidFill>
                  <a:srgbClr val="000000"/>
                </a:solidFill>
                <a:latin typeface="Times New Roman"/>
              </a:rPr>
              <a:t>οι σχολικοί ψυχολόγοι, </a:t>
            </a:r>
            <a:r>
              <a:rPr b="0" lang="el-GR" sz="2800" spc="-1" strike="noStrike">
                <a:solidFill>
                  <a:srgbClr val="000000"/>
                </a:solidFill>
                <a:latin typeface="Times New Roman"/>
              </a:rPr>
              <a:t>οι οποίοι συνεργάζονται επίσης με λογοθεραπευτές, εργοθεραπευτές, σχολικούς συμβούλους/συντονιστές εκπαιδευτικού έργου, οικογενειακούς θεραπευτές. </a:t>
            </a:r>
            <a:br>
              <a:rPr sz="2800"/>
            </a:b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400"/>
            </a:br>
            <a:br>
              <a:rPr sz="2800"/>
            </a:br>
            <a:endParaRPr b="0" lang="en-US" sz="24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ο ρόλο </a:t>
            </a:r>
            <a:br>
              <a:rPr sz="2800"/>
            </a:br>
            <a:r>
              <a:rPr b="0" lang="el-GR" sz="2800" spc="-1" strike="noStrike">
                <a:solidFill>
                  <a:srgbClr val="000000"/>
                </a:solidFill>
                <a:latin typeface="Times New Roman"/>
              </a:rPr>
              <a:t>των  Σχολικών Ψυχολόγων  οι οποί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a:t>
            </a:r>
            <a:br>
              <a:rPr sz="2800"/>
            </a:br>
            <a:r>
              <a:rPr b="0" lang="el-GR" sz="2800" spc="-1" strike="noStrike">
                <a:solidFill>
                  <a:srgbClr val="000000"/>
                </a:solidFill>
                <a:latin typeface="Times New Roman"/>
              </a:rPr>
              <a:t>με ειδικές ανάγκες σε πολλά επίπεδα.</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η συμμετοχή μαθητών αμεα </a:t>
            </a:r>
            <a:br>
              <a:rPr sz="2800"/>
            </a:br>
            <a:r>
              <a:rPr b="1" lang="el-GR" sz="2800" spc="-1" strike="noStrike">
                <a:solidFill>
                  <a:srgbClr val="000000"/>
                </a:solidFill>
                <a:latin typeface="Times New Roman"/>
              </a:rPr>
              <a:t>σε εξωσχολικές δραστηριότητες.</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Να αναγνωρίζετε  ότι η συμμετοχή μαθητών αμεα σε εξωσχολικές δραστηριότητες </a:t>
            </a:r>
            <a:br>
              <a:rPr sz="2800"/>
            </a:br>
            <a:r>
              <a:rPr b="0" lang="el-GR" sz="2800" spc="-1" strike="noStrike">
                <a:solidFill>
                  <a:srgbClr val="000000"/>
                </a:solidFill>
                <a:latin typeface="Times New Roman"/>
              </a:rPr>
              <a:t>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a:t>
            </a:r>
            <a:br>
              <a:rPr sz="2800"/>
            </a:br>
            <a:r>
              <a:rPr b="0" lang="el-GR" sz="2800" spc="-1" strike="noStrike">
                <a:solidFill>
                  <a:srgbClr val="000000"/>
                </a:solidFill>
                <a:latin typeface="Times New Roman"/>
              </a:rPr>
              <a:t>ενδ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σημαίνετε ότι 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a:t>
            </a:r>
            <a:br>
              <a:rPr sz="2800"/>
            </a:br>
            <a:r>
              <a:rPr b="0" lang="el-GR" sz="2800" spc="-1" strike="noStrike">
                <a:solidFill>
                  <a:srgbClr val="000000"/>
                </a:solidFill>
                <a:latin typeface="Times New Roman"/>
              </a:rPr>
              <a:t>οι εξωσχολικές δραστηριότητες </a:t>
            </a:r>
            <a:br>
              <a:rPr sz="2800"/>
            </a:br>
            <a:r>
              <a:rPr b="0" lang="el-GR" sz="2800" spc="-1" strike="noStrike">
                <a:solidFill>
                  <a:srgbClr val="000000"/>
                </a:solidFill>
                <a:latin typeface="Times New Roman"/>
              </a:rPr>
              <a:t>συμβάλλουν καθοριστικά στην ένταξη τους </a:t>
            </a:r>
            <a:br>
              <a:rPr sz="2800"/>
            </a:br>
            <a:r>
              <a:rPr b="0" lang="el-GR" sz="2800" spc="-1" strike="noStrike">
                <a:solidFill>
                  <a:srgbClr val="000000"/>
                </a:solidFill>
                <a:latin typeface="Times New Roman"/>
              </a:rPr>
              <a:t>στο σχολικό περιβάλλον. </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ΕΞΕΙΣ-ΚΛΕΙΔΙΑ</a:t>
            </a:r>
            <a:br>
              <a:rPr sz="2800"/>
            </a:br>
            <a:br>
              <a:rPr sz="2800"/>
            </a:br>
            <a:r>
              <a:rPr b="1" lang="el-GR" sz="2800" spc="-1" strike="noStrike">
                <a:solidFill>
                  <a:srgbClr val="000000"/>
                </a:solidFill>
                <a:latin typeface="Times New Roman"/>
              </a:rPr>
              <a:t> Η συνδιδασκαλία</a:t>
            </a:r>
            <a:r>
              <a:rPr b="0" lang="el-GR" sz="2800" spc="-1" strike="noStrike">
                <a:solidFill>
                  <a:srgbClr val="000000"/>
                </a:solidFill>
                <a:latin typeface="Times New Roman"/>
              </a:rPr>
              <a:t>  και η συνεκπαίδευση,</a:t>
            </a:r>
            <a:br>
              <a:rPr sz="2800"/>
            </a:br>
            <a:r>
              <a:rPr b="1" lang="el-GR" sz="2800" spc="-1" strike="noStrike">
                <a:solidFill>
                  <a:srgbClr val="000000"/>
                </a:solidFill>
                <a:latin typeface="Times New Roman"/>
              </a:rPr>
              <a:t> Χαρακτηριστικά  Συνδιδασκαλίας,</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Τύποι συνδιδασκαλίας,  </a:t>
            </a:r>
            <a:br>
              <a:rPr sz="2800"/>
            </a:br>
            <a:r>
              <a:rPr b="1" lang="el-GR" sz="2800" spc="-1" strike="noStrike">
                <a:solidFill>
                  <a:srgbClr val="000000"/>
                </a:solidFill>
                <a:latin typeface="Times New Roman"/>
              </a:rPr>
              <a:t>  Ρόλοι  Εκπαιδευτικών /Συν-διδασκάλων</a:t>
            </a: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Μοντέλα Σχολικής Ένταξης, </a:t>
            </a:r>
            <a:br>
              <a:rPr sz="2800"/>
            </a:br>
            <a:r>
              <a:rPr b="1" lang="el-GR" sz="2800" spc="-1" strike="noStrike">
                <a:solidFill>
                  <a:srgbClr val="000000"/>
                </a:solidFill>
                <a:latin typeface="Times New Roman"/>
                <a:ea typeface="Arial"/>
              </a:rPr>
              <a:t>Παράγοντες Διαμόρφωσης της Σχολικής Ένταξης , </a:t>
            </a:r>
            <a:br>
              <a:rPr sz="2800"/>
            </a:br>
            <a:r>
              <a:rPr b="1" lang="el-GR" sz="2800" spc="-1" strike="noStrike">
                <a:solidFill>
                  <a:srgbClr val="000000"/>
                </a:solidFill>
                <a:latin typeface="Times New Roman"/>
                <a:ea typeface="Arial"/>
              </a:rPr>
              <a:t>η  Σχολική Κουλτούρα,</a:t>
            </a:r>
            <a:r>
              <a:rPr b="1" lang="el-GR" sz="2800" spc="-1" strike="noStrike">
                <a:solidFill>
                  <a:srgbClr val="000000"/>
                </a:solidFill>
                <a:latin typeface="Times New Roman"/>
              </a:rPr>
              <a:t> </a:t>
            </a:r>
            <a:br>
              <a:rPr sz="2800"/>
            </a:br>
            <a:r>
              <a:rPr b="1" lang="el-GR" sz="2800" spc="-1" strike="noStrike">
                <a:solidFill>
                  <a:srgbClr val="000000"/>
                </a:solidFill>
                <a:latin typeface="Times New Roman"/>
              </a:rPr>
              <a:t>O ρόλος του Εκπαιδευτικού Προσωπικού,</a:t>
            </a:r>
            <a:r>
              <a:rPr b="1" lang="en-US" sz="2800" spc="-1" strike="noStrike">
                <a:solidFill>
                  <a:srgbClr val="000000"/>
                </a:solidFill>
                <a:latin typeface="Times New Roman"/>
                <a:ea typeface="Arial"/>
              </a:rPr>
              <a:t> </a:t>
            </a: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r>
              <a:rPr b="1" lang="en-US" sz="2800" spc="-1" strike="noStrike">
                <a:solidFill>
                  <a:srgbClr val="000000"/>
                </a:solidFill>
                <a:latin typeface="Times New Roman"/>
              </a:rPr>
              <a:t> </a:t>
            </a:r>
            <a:r>
              <a:rPr b="1" lang="el-GR" sz="2800" spc="-1" strike="noStrike">
                <a:solidFill>
                  <a:srgbClr val="000000"/>
                </a:solidFill>
                <a:latin typeface="Times New Roman"/>
              </a:rPr>
              <a:t>,</a:t>
            </a:r>
            <a:br>
              <a:rPr sz="2800"/>
            </a:br>
            <a:r>
              <a:rPr b="1" lang="en-US" sz="2800" spc="-1" strike="noStrike">
                <a:solidFill>
                  <a:srgbClr val="000000"/>
                </a:solidFill>
                <a:latin typeface="Times New Roman"/>
              </a:rPr>
              <a:t>O </a:t>
            </a:r>
            <a:r>
              <a:rPr b="1" lang="el-GR" sz="2800" spc="-1" strike="noStrike">
                <a:solidFill>
                  <a:srgbClr val="000000"/>
                </a:solidFill>
                <a:latin typeface="Times New Roman"/>
              </a:rPr>
              <a:t>ρόλος  των ειδικών επαγγελματιών </a:t>
            </a:r>
            <a:br>
              <a:rPr sz="2800"/>
            </a:br>
            <a:r>
              <a:rPr b="1" lang="el-GR" sz="2800" spc="-1" strike="noStrike">
                <a:solidFill>
                  <a:srgbClr val="000000"/>
                </a:solidFill>
                <a:latin typeface="Times New Roman"/>
              </a:rPr>
              <a:t>[π.χ του ψυχολόγου, κλπ], </a:t>
            </a:r>
            <a:br>
              <a:rPr sz="2800"/>
            </a:br>
            <a:r>
              <a:rPr b="1" lang="el-GR" sz="2800" spc="-1" strike="noStrike">
                <a:solidFill>
                  <a:srgbClr val="000000"/>
                </a:solidFill>
                <a:latin typeface="Times New Roman"/>
              </a:rPr>
              <a:t>Εξωσχολικές Κοινωνικές Δραστηριότητες</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708" name="Picture 2" descr=""/>
          <p:cNvPicPr/>
          <p:nvPr/>
        </p:nvPicPr>
        <p:blipFill>
          <a:blip r:embed="rId1"/>
          <a:stretch/>
        </p:blipFill>
        <p:spPr>
          <a:xfrm>
            <a:off x="0" y="0"/>
            <a:ext cx="9144000" cy="1368360"/>
          </a:xfrm>
          <a:prstGeom prst="rect">
            <a:avLst/>
          </a:prstGeom>
          <a:ln w="0">
            <a:noFill/>
          </a:ln>
        </p:spPr>
      </p:pic>
      <p:pic>
        <p:nvPicPr>
          <p:cNvPr id="6709" name="Picture 3" descr=""/>
          <p:cNvPicPr/>
          <p:nvPr/>
        </p:nvPicPr>
        <p:blipFill>
          <a:blip r:embed="rId2"/>
          <a:stretch/>
        </p:blipFill>
        <p:spPr>
          <a:xfrm>
            <a:off x="1258920" y="2060640"/>
            <a:ext cx="1297080" cy="1528560"/>
          </a:xfrm>
          <a:prstGeom prst="rect">
            <a:avLst/>
          </a:prstGeom>
          <a:ln w="0">
            <a:noFill/>
          </a:ln>
        </p:spPr>
      </p:pic>
      <p:pic>
        <p:nvPicPr>
          <p:cNvPr id="6710" name="Picture 4" descr=""/>
          <p:cNvPicPr/>
          <p:nvPr/>
        </p:nvPicPr>
        <p:blipFill>
          <a:blip r:embed="rId3"/>
          <a:stretch/>
        </p:blipFill>
        <p:spPr>
          <a:xfrm>
            <a:off x="6948360" y="1989000"/>
            <a:ext cx="1444680" cy="1573200"/>
          </a:xfrm>
          <a:prstGeom prst="rect">
            <a:avLst/>
          </a:prstGeom>
          <a:ln w="0">
            <a:noFill/>
          </a:ln>
        </p:spPr>
      </p:pic>
      <p:sp>
        <p:nvSpPr>
          <p:cNvPr id="6711"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6712"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Η</a:t>
            </a:r>
            <a:br>
              <a:rPr sz="2800"/>
            </a:b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αφορά παιδαγωγικές θεωρήσεις και πρακτικές μέσα από τις οποίες αναγνωρίζεται </a:t>
            </a:r>
            <a:br>
              <a:rPr sz="2800"/>
            </a:br>
            <a:r>
              <a:rPr b="0" lang="el-GR" sz="2800" spc="-1" strike="noStrike">
                <a:solidFill>
                  <a:srgbClr val="000000"/>
                </a:solidFill>
                <a:latin typeface="Times New Roman"/>
              </a:rPr>
              <a:t>το δικαίωμα της διαφορετικότητας, </a:t>
            </a:r>
            <a:br>
              <a:rPr sz="2800"/>
            </a:br>
            <a:r>
              <a:rPr b="0" lang="el-GR" sz="2800" spc="-1" strike="noStrike">
                <a:solidFill>
                  <a:srgbClr val="000000"/>
                </a:solidFill>
                <a:latin typeface="Times New Roman"/>
              </a:rPr>
              <a:t>αίρονται τα στερεότυπα και</a:t>
            </a:r>
            <a:br>
              <a:rPr sz="2800"/>
            </a:br>
            <a:r>
              <a:rPr b="0" lang="el-GR" sz="2800" spc="-1" strike="noStrike">
                <a:solidFill>
                  <a:srgbClr val="000000"/>
                </a:solidFill>
                <a:latin typeface="Times New Roman"/>
              </a:rPr>
              <a:t> δίνεται η δυνατότητα ισότιμης συμμετοχής </a:t>
            </a:r>
            <a:br>
              <a:rPr sz="2800"/>
            </a:br>
            <a:r>
              <a:rPr b="0" lang="el-GR" sz="2800" spc="-1" strike="noStrike">
                <a:solidFill>
                  <a:srgbClr val="000000"/>
                </a:solidFill>
                <a:latin typeface="Times New Roman"/>
              </a:rPr>
              <a:t>στην πολιτική και κοινωνική ζωή </a:t>
            </a:r>
            <a:br>
              <a:rPr sz="2800"/>
            </a:br>
            <a:r>
              <a:rPr b="0" lang="el-GR" sz="2800" spc="-1" strike="noStrike">
                <a:solidFill>
                  <a:srgbClr val="000000"/>
                </a:solidFill>
                <a:latin typeface="Times New Roman"/>
              </a:rPr>
              <a:t>σε όλους τους μαθητές. </a:t>
            </a:r>
            <a:br>
              <a:rPr sz="2800"/>
            </a:b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συγγραφείς, αρθογράφοι, ερευνητές,</a:t>
            </a:r>
            <a:br>
              <a:rPr sz="2800"/>
            </a:br>
            <a:r>
              <a:rPr b="0" lang="el-GR" sz="2800" spc="-1" strike="noStrike">
                <a:solidFill>
                  <a:srgbClr val="000000"/>
                </a:solidFill>
                <a:latin typeface="Times New Roman"/>
              </a:rPr>
              <a:t> εκπαιδευτικοί και άλλοι]</a:t>
            </a:r>
            <a:br>
              <a:rPr sz="2800"/>
            </a:br>
            <a:r>
              <a:rPr b="0" lang="el-GR" sz="2800" spc="-1" strike="noStrike">
                <a:solidFill>
                  <a:srgbClr val="000000"/>
                </a:solidFill>
                <a:latin typeface="Times New Roman"/>
              </a:rPr>
              <a:t>που ασχολούνται με την </a:t>
            </a:r>
            <a:r>
              <a:rPr b="1" lang="el-GR" sz="2800" spc="-1" strike="noStrike">
                <a:solidFill>
                  <a:srgbClr val="000000"/>
                </a:solidFill>
                <a:latin typeface="Times New Roman"/>
              </a:rPr>
              <a:t>Παιδαγωγική της Ένταξης υποστηρίζουν </a:t>
            </a:r>
            <a:br>
              <a:rPr sz="2800"/>
            </a:br>
            <a:r>
              <a:rPr b="1" lang="el-GR" sz="2800" spc="-1" strike="noStrike">
                <a:solidFill>
                  <a:srgbClr val="000000"/>
                </a:solidFill>
                <a:latin typeface="Times New Roman"/>
              </a:rPr>
              <a:t>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a:t>
            </a:r>
            <a:br>
              <a:rPr sz="2800"/>
            </a:br>
            <a:r>
              <a:rPr b="0" lang="el-GR" sz="2800" spc="-1" strike="noStrike">
                <a:solidFill>
                  <a:srgbClr val="000000"/>
                </a:solidFill>
                <a:latin typeface="Times New Roman"/>
              </a:rPr>
              <a:t>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br>
              <a:rPr sz="2800"/>
            </a:br>
            <a:r>
              <a:rPr b="0" lang="el-GR" sz="2800" spc="-1" strike="noStrike">
                <a:solidFill>
                  <a:srgbClr val="000000"/>
                </a:solidFill>
                <a:latin typeface="Times New Roman"/>
              </a:rPr>
              <a:t>Αυτό είναι και το παιδαγωγικό ζητούμενο της Παιδαγωγικής της Ένταξης, </a:t>
            </a:r>
            <a:br>
              <a:rPr sz="2800"/>
            </a:br>
            <a:r>
              <a:rPr b="0" lang="el-GR" sz="2800" spc="-1" strike="noStrike">
                <a:solidFill>
                  <a:srgbClr val="000000"/>
                </a:solidFill>
                <a:latin typeface="Times New Roman"/>
              </a:rPr>
              <a:t>που αποτελεί και ένα ηθικό ζήτημα.</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179280" y="981000"/>
            <a:ext cx="8713800" cy="48038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κοπός της ενότητας αυτής </a:t>
            </a:r>
            <a:br>
              <a:rPr sz="2800"/>
            </a:br>
            <a:r>
              <a:rPr b="1" lang="el-GR" sz="2800" spc="-1" strike="noStrike">
                <a:solidFill>
                  <a:srgbClr val="000000"/>
                </a:solidFill>
                <a:latin typeface="Times New Roman"/>
              </a:rPr>
              <a:t>[του μαθήματος Παιδαγωγική της Ένταξης ] </a:t>
            </a:r>
            <a:br>
              <a:rPr sz="2800"/>
            </a:br>
            <a:r>
              <a:rPr b="0" lang="el-GR" sz="2800" spc="-1" strike="noStrike">
                <a:solidFill>
                  <a:srgbClr val="000000"/>
                </a:solidFill>
                <a:latin typeface="Times New Roman"/>
              </a:rPr>
              <a:t>είναι  να εστιάσει και να αναλύσει τους σημαντικότερους παράγοντες,  που  δυνητικά μπορούν να προωθήσουν  μία επιτυχημένη ένταξη. Τέτοιοι Παράγοντες είναι οι εξής :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a:t>
            </a:r>
            <a:br>
              <a:rPr sz="2800"/>
            </a:br>
            <a:r>
              <a:rPr b="0" lang="el-GR" sz="2800" spc="-1" strike="noStrike">
                <a:solidFill>
                  <a:srgbClr val="000000"/>
                </a:solidFill>
                <a:latin typeface="Times New Roman"/>
              </a:rPr>
              <a:t>με ειδικές  εκπαιδευτικές ανάγκες και αναπηρίες </a:t>
            </a:r>
            <a:br>
              <a:rPr sz="2800"/>
            </a:br>
            <a:r>
              <a:rPr b="0" lang="el-GR" sz="2800" spc="-1" strike="noStrike">
                <a:solidFill>
                  <a:srgbClr val="000000"/>
                </a:solidFill>
                <a:latin typeface="Times New Roman"/>
              </a:rPr>
              <a:t>σε ξεχωριστό πλαίσιο </a:t>
            </a:r>
            <a:br>
              <a:rPr sz="2800"/>
            </a:br>
            <a:r>
              <a:rPr b="0" lang="el-GR" sz="2800" spc="-1" strike="noStrike">
                <a:solidFill>
                  <a:srgbClr val="000000"/>
                </a:solidFill>
                <a:latin typeface="Times New Roman"/>
              </a:rPr>
              <a:t>μπορεί να οδηγήσει  σε στιγματισμό και αποκλεισμό.</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ούμενο  για την Παιδαγωγική Της Ένταξης </a:t>
            </a:r>
            <a:br>
              <a:rPr sz="2800"/>
            </a:br>
            <a:r>
              <a:rPr b="0" lang="el-GR" sz="2800" spc="-1" strike="noStrike">
                <a:solidFill>
                  <a:srgbClr val="000000"/>
                </a:solidFill>
                <a:latin typeface="Times New Roman"/>
              </a:rPr>
              <a:t>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1:36Z</dcterms:modified>
  <cp:revision>1</cp:revision>
  <dc:subject/>
  <dc:title/>
</cp:coreProperties>
</file>